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100A-67E9-4800-B42C-93F12A4D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DE8-5A76-4689-95B8-3E672717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C48-E6C8-4A66-BB09-3BDFC0ACE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41DD-1D3D-4B3D-95B7-DE095E73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C57-CF2C-4192-AD5D-14767BC6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7A6-CEE1-4CFE-BE2C-EAC99411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6FB-45F6-42A4-9624-D32846F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7CD-70BE-41BF-9BEE-B6BEAF6D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3A8-E5DC-46C9-BB33-CC39998D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E34-C18E-4386-86E2-68D5073A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D1CB-C946-4557-B52A-EE8EB6C7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0DB-5FD6-453B-B415-4133AE81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FEB6-EA61-447E-9026-9E6ABA273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,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,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a TYPED, 30-60 second, commer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0T17:24:14Z</dcterms:modified>
  <cp:revision>14</cp:revision>
  <dc:subject/>
  <dc:title>Jefferson’s Presidency</dc:title>
</cp:coreProperties>
</file>