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48D0-B336-4952-96E3-2018D156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03C-E4E4-497B-83D3-C9AD6990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754-72F0-4CE2-B8DF-DB58C44D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73AD-6256-45D7-AD6F-65EA3CDF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8EB-E0A1-43E2-A254-E0CC3336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9D4-F3F8-488D-95D3-A2C21072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735-33D5-4088-93C5-A891690F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D4E0-E47C-49E4-87E9-50D1CD53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F28-A433-4F9C-8A21-6AE82738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7C65-3D07-435C-ACED-3C83BD38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30D-3293-4C33-BB76-E5E6329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97E0-3F4F-44E3-817E-154D8747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c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1224-8826-4B50-BD14-95F395C34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11/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re the qualities of a h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, in you mind, has been the greatest American hero, (go on and choose a man and woma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ell does he/she fit your criter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jmap.org/images/jefferson.jpg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Jefferson’s Presid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badi MT Condensed Extra Bold"/>
              </a:rPr>
              <a:t>The election of 1800 will cost Alexander Hamilton his LIF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215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Inside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milton convinces the HofR to vote for Jeff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ly 1804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www.cynical-c.com/archives/bloggraphics/duel2.jpg"/>
          <p:cNvPicPr/>
          <p:nvPr/>
        </p:nvPicPr>
        <p:blipFill>
          <a:blip r:embed="rId1"/>
          <a:srcRect l="0" t="0" r="5831" b="11780"/>
          <a:stretch/>
        </p:blipFill>
        <p:spPr>
          <a:xfrm>
            <a:off x="4724280" y="2741760"/>
            <a:ext cx="4419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badi MT Condensed Extra Bold"/>
              </a:rPr>
              <a:t>Who does this sound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e after an unpopular_______ w/ unpopular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ed a 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paigns were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ng and good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eved in a l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britannica.com/blogs/wp-content/uploads/2007/12/fdr.jpg"/>
          <p:cNvPicPr/>
          <p:nvPr/>
        </p:nvPicPr>
        <p:blipFill>
          <a:blip r:embed="rId1"/>
          <a:stretch/>
        </p:blipFill>
        <p:spPr>
          <a:xfrm>
            <a:off x="4648320" y="1219320"/>
            <a:ext cx="31240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getreligion.org/wp-content/photos/small_obama_image.jpg"/>
          <p:cNvPicPr/>
          <p:nvPr/>
        </p:nvPicPr>
        <p:blipFill>
          <a:blip r:embed="rId2"/>
          <a:stretch/>
        </p:blipFill>
        <p:spPr>
          <a:xfrm>
            <a:off x="6286680" y="3286080"/>
            <a:ext cx="2857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Thomas Jefferson for Presid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r group has been bestowed with the difficult responsibility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ning TJ’s presidential campaign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make your selves experts on ‘the other guy’. He has already been in office; this is both bad </a:t>
            </a:r>
            <a:r>
              <a:rPr b="0" i="1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g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1) People are comfortable w/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2) People blame him for ALL the problem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, the voting public, to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vote for change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 to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vote for protection!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Convince me </a:t>
            </a: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Thomas Jefferson is my guy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create: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logan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212-216 will be helpfu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uisiana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closes off _____ in Miss.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J, to protect trade, sends ambassado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s to purchase the port city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 off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J believes in ______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csmh.pbwiki.com/f/LouisianaPurchase.jpg"/>
          <p:cNvPicPr/>
          <p:nvPr/>
        </p:nvPicPr>
        <p:blipFill>
          <a:blip r:embed="rId1"/>
          <a:stretch/>
        </p:blipFill>
        <p:spPr>
          <a:xfrm>
            <a:off x="4519440" y="1676520"/>
            <a:ext cx="4472280" cy="352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upload.wikimedia.org/wikipedia/commons/4/4d/LouisianaPurchase.png"/>
          <p:cNvPicPr/>
          <p:nvPr/>
        </p:nvPicPr>
        <p:blipFill>
          <a:blip r:embed="rId2"/>
          <a:stretch/>
        </p:blipFill>
        <p:spPr>
          <a:xfrm>
            <a:off x="0" y="990720"/>
            <a:ext cx="9220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56:21Z</dcterms:created>
  <dc:creator>Christine Sturges</dc:creator>
  <dc:description/>
  <dc:language>en-US</dc:language>
  <cp:lastModifiedBy>TPS</cp:lastModifiedBy>
  <dcterms:modified xsi:type="dcterms:W3CDTF">2008-11-13T18:26:55Z</dcterms:modified>
  <cp:revision>16</cp:revision>
  <dc:subject/>
  <dc:title>Jefferson’s Presidency</dc:title>
</cp:coreProperties>
</file>