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E193-9E1D-491E-91A5-F965CE2B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42AD-35A1-4216-9B76-25E9C523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C04D-96FC-4C5E-9883-C7EFF272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D119-E8E1-4C9D-ABE9-AE0346B8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F3C3-3D67-4FB9-B675-358D801B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0089-50E4-41A1-B87D-595FE107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7E04-135B-442A-8C59-21A90EC2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D78E-04DC-4AE8-868E-A68732EF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003F-6C43-4AC3-A7CE-D82557F8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D8D4-DA33-4B44-A709-53142F2C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AB2F-CFC2-4CD6-A895-FABFDE16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37B8-128C-423A-9651-1EF69FF5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1c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F141-8B29-4830-83C1-E90BE7BDB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al 11/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are the qualities of a her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o, in you mind, has been the greatest American hero, (go on and choose a man and woman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well does he/she fit your criter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ttp://www.jmap.org/images/jefferson.jpg"/>
          <p:cNvPicPr/>
          <p:nvPr/>
        </p:nvPicPr>
        <p:blipFill>
          <a:blip r:embed="rId1"/>
          <a:stretch/>
        </p:blipFill>
        <p:spPr>
          <a:xfrm>
            <a:off x="190512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ernard MT Condensed"/>
              </a:rPr>
              <a:t>Jefferson’s Presidenc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badi MT Condensed Extra Bold"/>
              </a:rPr>
              <a:t>The election of 1800 will cost Alexander Hamilton his LIF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 215,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Inside 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milton convinces the HofR to vote for Jeffer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ly 1804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http://www.cynical-c.com/archives/bloggraphics/duel2.jpg"/>
          <p:cNvPicPr/>
          <p:nvPr/>
        </p:nvPicPr>
        <p:blipFill>
          <a:blip r:embed="rId1"/>
          <a:srcRect l="0" t="0" r="5831" b="11780"/>
          <a:stretch/>
        </p:blipFill>
        <p:spPr>
          <a:xfrm>
            <a:off x="4724280" y="2741760"/>
            <a:ext cx="441972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badi MT Condensed Extra Bold"/>
              </a:rPr>
              <a:t>Who does this sound lik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6483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me after an unpopular_______ w/ unpopular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herited a n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mpaigns were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ng and good l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lieved in a l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http://www.britannica.com/blogs/wp-content/uploads/2007/12/fdr.jpg"/>
          <p:cNvPicPr/>
          <p:nvPr/>
        </p:nvPicPr>
        <p:blipFill>
          <a:blip r:embed="rId1"/>
          <a:stretch/>
        </p:blipFill>
        <p:spPr>
          <a:xfrm>
            <a:off x="4648320" y="1219320"/>
            <a:ext cx="3124080" cy="2857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http://www.getreligion.org/wp-content/photos/small_obama_image.jpg"/>
          <p:cNvPicPr/>
          <p:nvPr/>
        </p:nvPicPr>
        <p:blipFill>
          <a:blip r:embed="rId2"/>
          <a:stretch/>
        </p:blipFill>
        <p:spPr>
          <a:xfrm>
            <a:off x="6286680" y="3286080"/>
            <a:ext cx="28573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nard MT Condensed"/>
              </a:rPr>
              <a:t>Thomas Jefferson for Presid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Your group has been bestowed with the difficult responsibility of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unning TJ’s presidential campaign!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You need to make your selves experts on ‘the other guy’. He has already been in office; this is both bad </a:t>
            </a:r>
            <a:r>
              <a:rPr b="0" i="1" lang="en-US" sz="3200" spc="-1" strike="noStrike">
                <a:solidFill>
                  <a:srgbClr val="ffffff"/>
                </a:solidFill>
                <a:latin typeface="Agency FB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go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(1) People are comfortable w/John Ad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(2) People blame him for ALL the problems in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Convince me, the voting public, to </a:t>
            </a:r>
            <a:r>
              <a:rPr b="0" lang="en-US" sz="3200" spc="-1" strike="noStrike">
                <a:solidFill>
                  <a:srgbClr val="ffffff"/>
                </a:solidFill>
                <a:latin typeface="Bauhaus 93"/>
              </a:rPr>
              <a:t>vote for change!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Convince me to 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vote for protection!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Convince me </a:t>
            </a:r>
            <a:r>
              <a:rPr b="0" lang="en-US" sz="3200" spc="-1" strike="noStrike">
                <a:solidFill>
                  <a:srgbClr val="ffffff"/>
                </a:solidFill>
                <a:latin typeface="Bernard MT Condensed"/>
              </a:rPr>
              <a:t>Thomas Jefferson is my guy!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You need to create: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slogan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A P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212-216 will be helpful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urnal 11/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 to page 220. Make a list of the events leading to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rbury v Madis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se. DON’T READ THE LANDMARK SUPREME COURT CASES ON 221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uisiana Purc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914400"/>
            <a:ext cx="4495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in closes off _____ in Miss.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in has secret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J, to protect trade, sends ambassador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nts to purchase the port city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poleon off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J believes in ______ Constr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csmh.pbwiki.com/f/LouisianaPurchase.jpg"/>
          <p:cNvPicPr/>
          <p:nvPr/>
        </p:nvPicPr>
        <p:blipFill>
          <a:blip r:embed="rId1"/>
          <a:stretch/>
        </p:blipFill>
        <p:spPr>
          <a:xfrm>
            <a:off x="4519440" y="1676520"/>
            <a:ext cx="4472280" cy="3524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http://upload.wikimedia.org/wikipedia/commons/4/4d/LouisianaPurchase.png"/>
          <p:cNvPicPr/>
          <p:nvPr/>
        </p:nvPicPr>
        <p:blipFill>
          <a:blip r:embed="rId2"/>
          <a:stretch/>
        </p:blipFill>
        <p:spPr>
          <a:xfrm>
            <a:off x="0" y="990720"/>
            <a:ext cx="92203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wis and Cl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914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fferson commissions m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wether Lewis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fferson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illiam Clark w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ntiers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ed 120_____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 species never b/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n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http://www.pomeroy.house.gov/vertical/Sites/%7B5FD44A80-A0CB-465A-843F-D8C95CE0EFF5%7D/uploads/%7BE260A880-3354-4253-8395-4D5301380317%7D.JPG"/>
          <p:cNvPicPr/>
          <p:nvPr/>
        </p:nvPicPr>
        <p:blipFill>
          <a:blip r:embed="rId1"/>
          <a:stretch/>
        </p:blipFill>
        <p:spPr>
          <a:xfrm>
            <a:off x="5073480" y="2286000"/>
            <a:ext cx="4070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nard MT Condensed"/>
              </a:rPr>
              <a:t>7.2 Age of Jack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this section about our 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esident. Use the following terms/events to answer the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acksonian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oil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dian Removal Act/Trail of T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National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pening the Whit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ndrew Jackson ran as a ‘Man of the people;’ did his actions as president prove this to be true?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Rectangle 4" descr=""/>
          <p:cNvPicPr/>
          <p:nvPr/>
        </p:nvPicPr>
        <p:blipFill>
          <a:blip r:embed="rId1"/>
          <a:stretch/>
        </p:blipFill>
        <p:spPr>
          <a:xfrm>
            <a:off x="5284800" y="1590840"/>
            <a:ext cx="46274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01:56:21Z</dcterms:created>
  <dc:creator>Christine Sturges</dc:creator>
  <dc:description/>
  <dc:language>en-US</dc:language>
  <cp:lastModifiedBy>TPS</cp:lastModifiedBy>
  <dcterms:modified xsi:type="dcterms:W3CDTF">2008-11-18T18:45:25Z</dcterms:modified>
  <cp:revision>43</cp:revision>
  <dc:subject/>
  <dc:title>Jefferson’s Presidency</dc:title>
</cp:coreProperties>
</file>