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E92B-7AAF-497E-95CB-88EEC81C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F97-7889-4D4D-92A7-7040B221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97BA-06B3-4E2D-86F1-CB472732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3413-C959-40E7-B81E-B1367B50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49AE-B88F-46E1-BBFF-FB822E86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6790-20C2-4BBA-81E0-49CB5B3D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71DD-3C34-4624-8C8E-A22B53A8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9069-9828-4FD5-80E7-E3BAB196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1B5A-C5F2-4D7C-868E-32A3EC5D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5202-74D6-4C20-BD9E-35B8454A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0B9B-1242-43BE-BE2B-BC1D2A5F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28BA-838C-4E60-B9D5-F3547BF0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1c1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352A-7294-409A-B7EE-4E100ED3C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urnal 11/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are the qualities of a hero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o, in you mind, has been the greatest American hero, (go on and choose a man and woman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well does he/she fit your criter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ttp://www.jmap.org/images/jefferson.jpg"/>
          <p:cNvPicPr/>
          <p:nvPr/>
        </p:nvPicPr>
        <p:blipFill>
          <a:blip r:embed="rId1"/>
          <a:stretch/>
        </p:blipFill>
        <p:spPr>
          <a:xfrm>
            <a:off x="190512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ernard MT Condensed"/>
              </a:rPr>
              <a:t>Jefferson’s Presidenc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badi MT Condensed Extra Bold"/>
              </a:rPr>
              <a:t>The election of 1800 will cost Alexander Hamilton his LIF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ge 215,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The Inside 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milton convinces the HofR to vote for Jeffer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ly 1804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http://www.cynical-c.com/archives/bloggraphics/duel2.jpg"/>
          <p:cNvPicPr/>
          <p:nvPr/>
        </p:nvPicPr>
        <p:blipFill>
          <a:blip r:embed="rId1"/>
          <a:srcRect l="0" t="0" r="5831" b="11780"/>
          <a:stretch/>
        </p:blipFill>
        <p:spPr>
          <a:xfrm>
            <a:off x="4724280" y="2741760"/>
            <a:ext cx="441972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badi MT Condensed Extra Bold"/>
              </a:rPr>
              <a:t>Who does this sound lik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6483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me after an unpopular_______ w/ unpopular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herited a n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mpaigns were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ng and good 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lieved in a l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://www.britannica.com/blogs/wp-content/uploads/2007/12/fdr.jpg"/>
          <p:cNvPicPr/>
          <p:nvPr/>
        </p:nvPicPr>
        <p:blipFill>
          <a:blip r:embed="rId1"/>
          <a:stretch/>
        </p:blipFill>
        <p:spPr>
          <a:xfrm>
            <a:off x="4648320" y="1219320"/>
            <a:ext cx="3124080" cy="2857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http://www.getreligion.org/wp-content/photos/small_obama_image.jpg"/>
          <p:cNvPicPr/>
          <p:nvPr/>
        </p:nvPicPr>
        <p:blipFill>
          <a:blip r:embed="rId2"/>
          <a:stretch/>
        </p:blipFill>
        <p:spPr>
          <a:xfrm>
            <a:off x="6286680" y="3286080"/>
            <a:ext cx="28573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nard MT Condensed"/>
              </a:rPr>
              <a:t>Thomas Jefferson for Presid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Your group has been bestowed with the difficult responsibility of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unning TJ’s presidential campaign!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You need to make your selves experts on ‘the other guy’. He has already been in office; this is both bad </a:t>
            </a:r>
            <a:r>
              <a:rPr b="0" i="1" lang="en-US" sz="3200" spc="-1" strike="noStrike">
                <a:solidFill>
                  <a:srgbClr val="ffffff"/>
                </a:solidFill>
                <a:latin typeface="Agency FB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goo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(1) People are comfortable w/John A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(2) People blame him for ALL the problems in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Convince me, the voting public, to </a:t>
            </a:r>
            <a:r>
              <a:rPr b="0" lang="en-US" sz="3200" spc="-1" strike="noStrike">
                <a:solidFill>
                  <a:srgbClr val="ffffff"/>
                </a:solidFill>
                <a:latin typeface="Bauhaus 93"/>
              </a:rPr>
              <a:t>vote for change!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Convince me to </a:t>
            </a:r>
            <a:r>
              <a:rPr b="0" lang="en-US" sz="3200" spc="-1" strike="noStrike">
                <a:solidFill>
                  <a:srgbClr val="ffffff"/>
                </a:solidFill>
                <a:latin typeface="Baskerville Old Face"/>
              </a:rPr>
              <a:t>vote for protection!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 Convince me </a:t>
            </a:r>
            <a:r>
              <a:rPr b="0" lang="en-US" sz="3200" spc="-1" strike="noStrike">
                <a:solidFill>
                  <a:srgbClr val="ffffff"/>
                </a:solidFill>
                <a:latin typeface="Bernard MT Condensed"/>
              </a:rPr>
              <a:t>Thomas Jefferson is my guy!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You need to create: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slogan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A PO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ency FB"/>
              </a:rPr>
              <a:t>212-216 will be helpful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urnal 11/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to page 220. Make a list of the events leading to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rbury v Madis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se. DON’T READ THE LANDMARK SUPREME COURT CASES ON 221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uisiana Purc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91440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in closes off _____ in Miss.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in has secret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J, to protect trade, sends ambassador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nts to purchase the port city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poleon offe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J believes in ______ Constru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http://csmh.pbwiki.com/f/LouisianaPurchase.jpg"/>
          <p:cNvPicPr/>
          <p:nvPr/>
        </p:nvPicPr>
        <p:blipFill>
          <a:blip r:embed="rId1"/>
          <a:stretch/>
        </p:blipFill>
        <p:spPr>
          <a:xfrm>
            <a:off x="4519440" y="1676520"/>
            <a:ext cx="4472280" cy="3524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://upload.wikimedia.org/wikipedia/commons/4/4d/LouisianaPurchase.png"/>
          <p:cNvPicPr/>
          <p:nvPr/>
        </p:nvPicPr>
        <p:blipFill>
          <a:blip r:embed="rId2"/>
          <a:stretch/>
        </p:blipFill>
        <p:spPr>
          <a:xfrm>
            <a:off x="0" y="990720"/>
            <a:ext cx="92203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wis and Cl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914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fferson commissions m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f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wether Lewis w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fferson’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illiam Clark w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ntiers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vered 120_____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 species never b/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n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http://www.pomeroy.house.gov/vertical/Sites/%7B5FD44A80-A0CB-465A-843F-D8C95CE0EFF5%7D/uploads/%7BE260A880-3354-4253-8395-4D5301380317%7D.JPG"/>
          <p:cNvPicPr/>
          <p:nvPr/>
        </p:nvPicPr>
        <p:blipFill>
          <a:blip r:embed="rId1"/>
          <a:stretch/>
        </p:blipFill>
        <p:spPr>
          <a:xfrm>
            <a:off x="5073480" y="2286000"/>
            <a:ext cx="40705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ernard MT Condensed"/>
              </a:rPr>
              <a:t>7.2 Age of Jack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this section about our 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esident. Use the following terms/events to answer the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Jacksonian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oil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ndian Removal Act/Trail of T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National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pening the Whit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ndrew Jackson ran as a ‘Man of the people;’ did his actions as president prove this to be true?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Rectangle 4" descr=""/>
          <p:cNvPicPr/>
          <p:nvPr/>
        </p:nvPicPr>
        <p:blipFill>
          <a:blip r:embed="rId1"/>
          <a:stretch/>
        </p:blipFill>
        <p:spPr>
          <a:xfrm>
            <a:off x="5284800" y="1590840"/>
            <a:ext cx="46274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01:56:21Z</dcterms:created>
  <dc:creator>Christine Sturges</dc:creator>
  <dc:description/>
  <dc:language>en-US</dc:language>
  <cp:lastModifiedBy>TPS</cp:lastModifiedBy>
  <dcterms:modified xsi:type="dcterms:W3CDTF">2008-11-18T18:45:25Z</dcterms:modified>
  <cp:revision>43</cp:revision>
  <dc:subject/>
  <dc:title>Jefferson’s Presidency</dc:title>
</cp:coreProperties>
</file>