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FAC-E8B1-4916-B928-D018174D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814-7797-40BD-9E55-47BE0580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E2-A7D1-4325-8AF1-7495D736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313-B767-4289-B701-F5264964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9BF-B92E-4944-9F5E-08412DC3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264-D021-4E30-9522-0193770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FEA-9BCB-4721-916C-DCF25E92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774-FE6E-49A6-9537-10221D6A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00F-17A9-46DF-AB09-4F2920DA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B98-F0DD-49C2-A045-A1CC864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0F0F-75E9-4FD2-8676-A94BC9BF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C6B9-62F6-43A1-A95C-D36B49B2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6848-E06C-4514-A463-2EF121C56B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Journal 11/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you believe the Constitution should be taken literally or that there is room for interpretation? Why do you think this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blems of a new 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r deb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volution leaves US in 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greed that the ______will not front the whole b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alone could not raise the mo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rjmantiques.com/images/Colt%20Pay%20Note.jpg"/>
          <p:cNvPicPr/>
          <p:nvPr/>
        </p:nvPicPr>
        <p:blipFill>
          <a:blip r:embed="rId1"/>
          <a:srcRect l="0" t="13333" r="18972" b="0"/>
          <a:stretch/>
        </p:blipFill>
        <p:spPr>
          <a:xfrm>
            <a:off x="4498920" y="2133720"/>
            <a:ext cx="4187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amilton’s Economic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2189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gov’t should take on the whole deb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ov’t needs a way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oses a _________ _________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ld regulat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ld make_____to the gov’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upload.wikimedia.org/wikipedia/commons/thumb/c/ca/Alexander_Hamilton.jpg/425px-Alexander_Hamilton.jpg"/>
          <p:cNvPicPr/>
          <p:nvPr/>
        </p:nvPicPr>
        <p:blipFill>
          <a:blip r:embed="rId1"/>
          <a:stretch/>
        </p:blipFill>
        <p:spPr>
          <a:xfrm>
            <a:off x="4815000" y="1295280"/>
            <a:ext cx="36432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 opinion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142640"/>
            <a:ext cx="4724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ict Construction says lawmakers can do ONL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se Construction says lawmakers can make law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long as the Constitution does not sa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farm1.static.flickr.com/28/94478916_05fc3d3108.jpg?v=0"/>
          <p:cNvPicPr/>
          <p:nvPr/>
        </p:nvPicPr>
        <p:blipFill>
          <a:blip r:embed="rId1"/>
          <a:stretch/>
        </p:blipFill>
        <p:spPr>
          <a:xfrm>
            <a:off x="4191120" y="281952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35:29Z</dcterms:created>
  <dc:creator>TPS</dc:creator>
  <dc:description/>
  <dc:language>en-US</dc:language>
  <cp:lastModifiedBy>TPS</cp:lastModifiedBy>
  <dcterms:modified xsi:type="dcterms:W3CDTF">2008-11-07T13:56:03Z</dcterms:modified>
  <cp:revision>22</cp:revision>
  <dc:subject/>
  <dc:title>Problems of a new nation</dc:title>
</cp:coreProperties>
</file>