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6285-8F97-491C-A549-D23A35F6A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4EF7-74A4-4A04-9D33-AC1F76E7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6B42-65A3-4A03-B65B-21319A379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1A88-A607-4D22-96DE-346313F4E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8B03-D46A-4CB3-BB30-D1253B49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23A3-ED64-4DA9-8576-251DE102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CE35-BE5A-4BFE-A3F3-4CF13215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E3EA-A2ED-4350-A6EF-21081FB6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E807-1BBC-4A3B-87C2-3B47437A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3169-1581-449E-A59D-1AAA7B41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8262-FC36-4576-B752-9F23177E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26AA-A92E-4BCF-8885-00735918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FA7E-395C-4610-AC55-5E32C5C9BD9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Journal 11/5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Do you believe the Constitution should be taken literally or that there is room for interpretation? Why do you think this?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oblems of a new n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ar deb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Revolution leaves US in ____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is agreed that the ______will not front the whole bil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_________alone could not raise the mone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Picture 2" descr="http://rjmantiques.com/images/Colt%20Pay%20Note.jpg"/>
          <p:cNvPicPr/>
          <p:nvPr/>
        </p:nvPicPr>
        <p:blipFill>
          <a:blip r:embed="rId1"/>
          <a:srcRect l="0" t="13333" r="18972" b="0"/>
          <a:stretch/>
        </p:blipFill>
        <p:spPr>
          <a:xfrm>
            <a:off x="4498920" y="2133720"/>
            <a:ext cx="41878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amilton’s Economic Pla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-360" y="1218960"/>
            <a:ext cx="4800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_________gov’t should take on the whole deb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gov’t needs a way to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poses a _________ _________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uld regulate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uld make_____to the gov’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2" descr="http://upload.wikimedia.org/wikipedia/commons/thumb/c/ca/Alexander_Hamilton.jpg/425px-Alexander_Hamilton.jpg"/>
          <p:cNvPicPr/>
          <p:nvPr/>
        </p:nvPicPr>
        <p:blipFill>
          <a:blip r:embed="rId1"/>
          <a:stretch/>
        </p:blipFill>
        <p:spPr>
          <a:xfrm>
            <a:off x="4815000" y="1295280"/>
            <a:ext cx="364320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wo opinions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1142640"/>
            <a:ext cx="4724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rict Construction says lawmakers can do ONLY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ose Construction says lawmakers can make laws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s long as the Constitution does not say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2" descr="http://farm1.static.flickr.com/28/94478916_05fc3d3108.jpg?v=0"/>
          <p:cNvPicPr/>
          <p:nvPr/>
        </p:nvPicPr>
        <p:blipFill>
          <a:blip r:embed="rId1"/>
          <a:stretch/>
        </p:blipFill>
        <p:spPr>
          <a:xfrm>
            <a:off x="4191120" y="2819520"/>
            <a:ext cx="47624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6:35:29Z</dcterms:created>
  <dc:creator>TPS</dc:creator>
  <dc:description/>
  <dc:language>en-US</dc:language>
  <cp:lastModifiedBy>TPS</cp:lastModifiedBy>
  <dcterms:modified xsi:type="dcterms:W3CDTF">2008-11-07T13:56:03Z</dcterms:modified>
  <cp:revision>22</cp:revision>
  <dc:subject/>
  <dc:title>Problems of a new nation</dc:title>
</cp:coreProperties>
</file>