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34A-AE91-478C-B8B2-A94BE1E1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930-D102-4C5A-9EDD-FDC450DA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204E-0B77-4A1E-BEFB-8BA408E46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52C-4CBA-436E-B5A1-A5A18B5A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EAB-11F0-4BB4-82C3-1BC9E099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D9ED-15C1-4BF8-8547-8C0012B6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A1A-A73B-4FBA-A15E-FEDC01DC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4879-B104-4E61-A8CC-7F0785ED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9B1-E99E-4ED3-956B-763A7A53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BC3-1498-4B4A-8985-DDDD7C4A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195A-7DE4-4FFB-8577-C16FBE6B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0C9-7972-4DD8-BF98-D6783933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1270-CE06-44C7-9487-29879EE88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9/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to page 156. Read “Ruling the Mediterranean”, “Impact at Home”, and “Making Attempts at Reform”. In what ways did Rome go from a Republic, where citizens participate in gov’t, to something more oppressive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4"/>
          <p:cNvSpPr/>
          <p:nvPr/>
        </p:nvSpPr>
        <p:spPr>
          <a:xfrm>
            <a:off x="1371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5"/>
          <p:cNvSpPr/>
          <p:nvPr/>
        </p:nvSpPr>
        <p:spPr>
          <a:xfrm>
            <a:off x="3124080" y="129528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n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6"/>
          <p:cNvSpPr/>
          <p:nvPr/>
        </p:nvSpPr>
        <p:spPr>
          <a:xfrm>
            <a:off x="4800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7"/>
          <p:cNvSpPr/>
          <p:nvPr/>
        </p:nvSpPr>
        <p:spPr>
          <a:xfrm>
            <a:off x="3124080" y="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ict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8"/>
          <p:cNvSpPr/>
          <p:nvPr/>
        </p:nvSpPr>
        <p:spPr>
          <a:xfrm>
            <a:off x="609480" y="403848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mienne"/>
              </a:rPr>
              <a:t>Tribunes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2"/>
          <p:cNvSpPr/>
          <p:nvPr/>
        </p:nvSpPr>
        <p:spPr>
          <a:xfrm>
            <a:off x="0" y="5334120"/>
            <a:ext cx="91440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 Tables: created by the____________ so that they coul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0" y="99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be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wn Arrow 15"/>
          <p:cNvSpPr/>
          <p:nvPr/>
        </p:nvSpPr>
        <p:spPr>
          <a:xfrm>
            <a:off x="33526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16"/>
          <p:cNvSpPr/>
          <p:nvPr/>
        </p:nvSpPr>
        <p:spPr>
          <a:xfrm>
            <a:off x="49528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p Arrow 17"/>
          <p:cNvSpPr/>
          <p:nvPr/>
        </p:nvSpPr>
        <p:spPr>
          <a:xfrm>
            <a:off x="4191120" y="609480"/>
            <a:ext cx="685800" cy="83844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eft-Right Arrow 18"/>
          <p:cNvSpPr/>
          <p:nvPr/>
        </p:nvSpPr>
        <p:spPr>
          <a:xfrm>
            <a:off x="3733920" y="3276720"/>
            <a:ext cx="1752480" cy="45720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wn Arrow 19"/>
          <p:cNvSpPr/>
          <p:nvPr/>
        </p:nvSpPr>
        <p:spPr>
          <a:xfrm>
            <a:off x="12193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wn Arrow 20"/>
          <p:cNvSpPr/>
          <p:nvPr/>
        </p:nvSpPr>
        <p:spPr>
          <a:xfrm>
            <a:off x="4191120" y="518148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wn Arrow 21"/>
          <p:cNvSpPr/>
          <p:nvPr/>
        </p:nvSpPr>
        <p:spPr>
          <a:xfrm>
            <a:off x="76201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 and the Declin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Republic to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officials in Rom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itizens fe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gno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ir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s of citizen soldiers become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fessional ar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mies are more loyal to their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leader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republ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lh3.google.com/_uuSFdDYNAc4/RzgAkilSHrI/AAAAAAAABTc/0tPcKLw8P3c/s800/roman-army-10.jpg"/>
          <p:cNvPicPr/>
          <p:nvPr/>
        </p:nvPicPr>
        <p:blipFill>
          <a:blip r:embed="rId1"/>
          <a:stretch/>
        </p:blipFill>
        <p:spPr>
          <a:xfrm>
            <a:off x="4800600" y="1905120"/>
            <a:ext cx="4105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ius Caes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ER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 popular military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quickly gained a loy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ed lands w/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s own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the Senate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me him emperor for life. This, by definition ended the republic. Now Rome is an Empir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www.lewrockwell.com/carson/rome-caesar.jpg"/>
          <p:cNvPicPr/>
          <p:nvPr/>
        </p:nvPicPr>
        <p:blipFill>
          <a:blip r:embed="rId1"/>
          <a:stretch/>
        </p:blipFill>
        <p:spPr>
          <a:xfrm>
            <a:off x="4724280" y="3181320"/>
            <a:ext cx="44197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questgarden.com/62/15/1/080310122438/images/julius_caesar_statue.jpg"/>
          <p:cNvPicPr/>
          <p:nvPr/>
        </p:nvPicPr>
        <p:blipFill>
          <a:blip r:embed="rId1"/>
          <a:stretch/>
        </p:blipFill>
        <p:spPr>
          <a:xfrm>
            <a:off x="5715000" y="1371600"/>
            <a:ext cx="2857680" cy="4200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ck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219320"/>
            <a:ext cx="47242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tries to enac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form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betterment of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become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solu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r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f the new Roman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s of the gov’t feel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eatened by Caesar'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ot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assin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40:29Z</dcterms:created>
  <dc:creator>Christine Sturges</dc:creator>
  <dc:description/>
  <dc:language>en-US</dc:language>
  <cp:lastModifiedBy>IT Clone User</cp:lastModifiedBy>
  <dcterms:modified xsi:type="dcterms:W3CDTF">2010-09-07T12:45:15Z</dcterms:modified>
  <cp:revision>389</cp:revision>
  <dc:subject/>
  <dc:title>Caesar and the Decline of the Republic</dc:title>
</cp:coreProperties>
</file>