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76D0-2FF8-45A1-83AB-5BEED2D5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9F0-BAF8-4314-B99D-2B6A799A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32D-E355-4D68-BFF9-ECB51FC4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1EC-4C8A-4DD1-845D-EC30596B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782-6F76-427C-A7C9-B72B19E5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C447-D28D-4BF0-A7F0-2E41C6D1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187-DFD5-4410-B21F-429142D3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944C-5A41-4099-9ECD-878B782F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1313-D990-455D-9B4D-F69F17DC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C33-A15C-4EE5-9A52-25F635DA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8C2-5A1D-4AD3-A7B7-CE01AA2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89DF-157A-4145-8D11-323CA2AE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FAE62-6CAF-4312-95C3-FF374CF0E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9/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urn to page 156. Read “Ruling the Mediterranean”, “Impact at Home”, and “Making Attempts at Reform”. In what ways did Rome go from a Republic, where citizens participate in gov’t, to something more oppressive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ed Rectangle 4"/>
          <p:cNvSpPr/>
          <p:nvPr/>
        </p:nvSpPr>
        <p:spPr>
          <a:xfrm>
            <a:off x="1371600" y="26668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Consu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5"/>
          <p:cNvSpPr/>
          <p:nvPr/>
        </p:nvSpPr>
        <p:spPr>
          <a:xfrm>
            <a:off x="3124080" y="1295280"/>
            <a:ext cx="28958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en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6"/>
          <p:cNvSpPr/>
          <p:nvPr/>
        </p:nvSpPr>
        <p:spPr>
          <a:xfrm>
            <a:off x="4800600" y="26668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Consu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7"/>
          <p:cNvSpPr/>
          <p:nvPr/>
        </p:nvSpPr>
        <p:spPr>
          <a:xfrm>
            <a:off x="3124080" y="0"/>
            <a:ext cx="28958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Dict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8"/>
          <p:cNvSpPr/>
          <p:nvPr/>
        </p:nvSpPr>
        <p:spPr>
          <a:xfrm>
            <a:off x="609480" y="403848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mienne"/>
              </a:rPr>
              <a:t>Tribunes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12"/>
          <p:cNvSpPr/>
          <p:nvPr/>
        </p:nvSpPr>
        <p:spPr>
          <a:xfrm>
            <a:off x="0" y="5334120"/>
            <a:ext cx="914400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 Tables: created by the____________ so that they coul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4"/>
          <p:cNvSpPr/>
          <p:nvPr/>
        </p:nvSpPr>
        <p:spPr>
          <a:xfrm>
            <a:off x="0" y="990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be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own Arrow 15"/>
          <p:cNvSpPr/>
          <p:nvPr/>
        </p:nvSpPr>
        <p:spPr>
          <a:xfrm>
            <a:off x="3352680" y="1905120"/>
            <a:ext cx="762120" cy="9144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own Arrow 16"/>
          <p:cNvSpPr/>
          <p:nvPr/>
        </p:nvSpPr>
        <p:spPr>
          <a:xfrm>
            <a:off x="4952880" y="1905120"/>
            <a:ext cx="762120" cy="9144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Up Arrow 17"/>
          <p:cNvSpPr/>
          <p:nvPr/>
        </p:nvSpPr>
        <p:spPr>
          <a:xfrm>
            <a:off x="4191120" y="609480"/>
            <a:ext cx="685800" cy="83844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eft-Right Arrow 18"/>
          <p:cNvSpPr/>
          <p:nvPr/>
        </p:nvSpPr>
        <p:spPr>
          <a:xfrm>
            <a:off x="3733920" y="3276720"/>
            <a:ext cx="1752480" cy="45720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wn Arrow 19"/>
          <p:cNvSpPr/>
          <p:nvPr/>
        </p:nvSpPr>
        <p:spPr>
          <a:xfrm>
            <a:off x="1219320" y="5181480"/>
            <a:ext cx="685800" cy="990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own Arrow 20"/>
          <p:cNvSpPr/>
          <p:nvPr/>
        </p:nvSpPr>
        <p:spPr>
          <a:xfrm>
            <a:off x="4191120" y="5181480"/>
            <a:ext cx="6858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own Arrow 21"/>
          <p:cNvSpPr/>
          <p:nvPr/>
        </p:nvSpPr>
        <p:spPr>
          <a:xfrm>
            <a:off x="7620120" y="5181480"/>
            <a:ext cx="685800" cy="990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esar and the Declin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Republic to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officials in Rom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gh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itizens fe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gnor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ir gov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ds of citizen soldiers become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fessional ar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mies are more loyal to their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leader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republ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lh3.google.com/_uuSFdDYNAc4/RzgAkilSHrI/AAAAAAAABTc/0tPcKLw8P3c/s800/roman-army-10.jpg"/>
          <p:cNvPicPr/>
          <p:nvPr/>
        </p:nvPicPr>
        <p:blipFill>
          <a:blip r:embed="rId1"/>
          <a:stretch/>
        </p:blipFill>
        <p:spPr>
          <a:xfrm>
            <a:off x="4800600" y="1905120"/>
            <a:ext cx="41054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ius Caes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sar is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ER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 popular military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sar quickly gained a loyal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ed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quered lands w/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is own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the Senate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ame him emperor for life. This, by definition ended the republic. Now Rome is an Empir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www.lewrockwell.com/carson/rome-caesar.jpg"/>
          <p:cNvPicPr/>
          <p:nvPr/>
        </p:nvPicPr>
        <p:blipFill>
          <a:blip r:embed="rId1"/>
          <a:stretch/>
        </p:blipFill>
        <p:spPr>
          <a:xfrm>
            <a:off x="4724280" y="3181320"/>
            <a:ext cx="44197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http://questgarden.com/62/15/1/080310122438/images/julius_caesar_statue.jpg"/>
          <p:cNvPicPr/>
          <p:nvPr/>
        </p:nvPicPr>
        <p:blipFill>
          <a:blip r:embed="rId1"/>
          <a:stretch/>
        </p:blipFill>
        <p:spPr>
          <a:xfrm>
            <a:off x="5715000" y="1371600"/>
            <a:ext cx="2857680" cy="4200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ckl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219320"/>
            <a:ext cx="47242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sar tries to enac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form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betterment of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also become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solu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er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f the new Roman Re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s of the gov’t feel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reatened by Caesar'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plot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sassina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s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40:29Z</dcterms:created>
  <dc:creator>Christine Sturges</dc:creator>
  <dc:description/>
  <dc:language>en-US</dc:language>
  <cp:lastModifiedBy>IT Clone User</cp:lastModifiedBy>
  <dcterms:modified xsi:type="dcterms:W3CDTF">2010-09-07T12:45:15Z</dcterms:modified>
  <cp:revision>389</cp:revision>
  <dc:subject/>
  <dc:title>Caesar and the Decline of the Republic</dc:title>
</cp:coreProperties>
</file>