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3D64-AE3C-4727-9485-01BE8ACE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DA7-9A35-475D-8574-AA67E1BD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CE0-CFF0-4067-9A56-3F407502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AF7D-CD9A-4C47-831E-3F0CF632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E2A-14F1-4493-880E-9395FB30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A054-4BF4-4952-8821-97CDA43F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F36-A217-4AA5-9934-14D2AFEF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986C-280B-408B-ADAA-D4242321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8CD3-3D5B-4C78-BEDE-F6BE4B35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1384-5FB5-46F6-B9DF-EEA0556A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634-639C-462C-B375-2EB503A7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226-4280-4A83-B6D5-FADD0AC3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1715-2D30-47DB-9DCD-E85AFD783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a/Aug11_0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1/Caligula_Bust_Houston_Museum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4"/>
          <p:cNvSpPr/>
          <p:nvPr/>
        </p:nvSpPr>
        <p:spPr>
          <a:xfrm>
            <a:off x="1371600" y="26668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Consu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5"/>
          <p:cNvSpPr/>
          <p:nvPr/>
        </p:nvSpPr>
        <p:spPr>
          <a:xfrm>
            <a:off x="3124080" y="1295280"/>
            <a:ext cx="28958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Sena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6"/>
          <p:cNvSpPr/>
          <p:nvPr/>
        </p:nvSpPr>
        <p:spPr>
          <a:xfrm>
            <a:off x="4800600" y="26668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Consu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3124080" y="0"/>
            <a:ext cx="28958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Dicta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8"/>
          <p:cNvSpPr/>
          <p:nvPr/>
        </p:nvSpPr>
        <p:spPr>
          <a:xfrm>
            <a:off x="609480" y="4038480"/>
            <a:ext cx="80010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mienne"/>
              </a:rPr>
              <a:t>Tribunes: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12"/>
          <p:cNvSpPr/>
          <p:nvPr/>
        </p:nvSpPr>
        <p:spPr>
          <a:xfrm>
            <a:off x="0" y="5334120"/>
            <a:ext cx="914400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 Tables: created by the____________ so that they coul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0" y="990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be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Down Arrow 15"/>
          <p:cNvSpPr/>
          <p:nvPr/>
        </p:nvSpPr>
        <p:spPr>
          <a:xfrm>
            <a:off x="3352680" y="1905120"/>
            <a:ext cx="762120" cy="9144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wn Arrow 16"/>
          <p:cNvSpPr/>
          <p:nvPr/>
        </p:nvSpPr>
        <p:spPr>
          <a:xfrm>
            <a:off x="4952880" y="1905120"/>
            <a:ext cx="762120" cy="9144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Up Arrow 17"/>
          <p:cNvSpPr/>
          <p:nvPr/>
        </p:nvSpPr>
        <p:spPr>
          <a:xfrm>
            <a:off x="4191120" y="609480"/>
            <a:ext cx="685800" cy="838440"/>
          </a:xfrm>
          <a:prstGeom prst="upArrow">
            <a:avLst>
              <a:gd name="adj1" fmla="val 50000"/>
              <a:gd name="adj2" fmla="val 50012"/>
            </a:avLst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eft-Right Arrow 18"/>
          <p:cNvSpPr/>
          <p:nvPr/>
        </p:nvSpPr>
        <p:spPr>
          <a:xfrm>
            <a:off x="3733920" y="3276720"/>
            <a:ext cx="1752480" cy="45720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wn Arrow 19"/>
          <p:cNvSpPr/>
          <p:nvPr/>
        </p:nvSpPr>
        <p:spPr>
          <a:xfrm>
            <a:off x="1219320" y="5181480"/>
            <a:ext cx="685800" cy="9907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wn Arrow 20"/>
          <p:cNvSpPr/>
          <p:nvPr/>
        </p:nvSpPr>
        <p:spPr>
          <a:xfrm>
            <a:off x="4191120" y="5181480"/>
            <a:ext cx="6858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own Arrow 21"/>
          <p:cNvSpPr/>
          <p:nvPr/>
        </p:nvSpPr>
        <p:spPr>
          <a:xfrm>
            <a:off x="7620120" y="5181480"/>
            <a:ext cx="685800" cy="9907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gu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lted O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famous uncle never hur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4479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is his greatu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avia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JC’s assass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Antony and Octavi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avian is victo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Image:Aug11 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676520"/>
            <a:ext cx="360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Octavian to Augu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5235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ate calls Oct. _________ mea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Augustus has absolute po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us makes re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upload.wikimedia.org/wikipedia/commons/5/5e/002_Augustus.jpg"/>
          <p:cNvPicPr/>
          <p:nvPr/>
        </p:nvPicPr>
        <p:blipFill>
          <a:blip r:embed="rId1"/>
          <a:stretch/>
        </p:blipFill>
        <p:spPr>
          <a:xfrm>
            <a:off x="4876920" y="289548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cces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360" y="144792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s did not like the idea of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of a ruler lea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ors var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g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r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us Aureli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Image:Caligula Bust Houston Museu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3048120"/>
            <a:ext cx="1873440" cy="2819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www.artchive.com/artchive/r/roman/roman_nero.jpg"/>
          <p:cNvPicPr/>
          <p:nvPr/>
        </p:nvPicPr>
        <p:blipFill>
          <a:blip r:embed="rId3"/>
          <a:stretch/>
        </p:blipFill>
        <p:spPr>
          <a:xfrm>
            <a:off x="6553080" y="990720"/>
            <a:ext cx="22669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10/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name is Otik and I am from a far away land. What is this Halloween thing you speak of? What is the history of this candy-day? What is its purpo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csturge\Local Settings\Temporary Internet Files\Content.IE5\CX3UYYSL\MCj04082260000[1].wmf"/>
          <p:cNvPicPr/>
          <p:nvPr/>
        </p:nvPicPr>
        <p:blipFill>
          <a:blip r:embed="rId1"/>
          <a:stretch/>
        </p:blipFill>
        <p:spPr>
          <a:xfrm>
            <a:off x="6705720" y="4724280"/>
            <a:ext cx="186048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man Empire spl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 of the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Pax Ro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320" y="16761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us Aurelius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problems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erors don’t rule long b/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50 yrs there are ____ emperors; only ____dies a natural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www.the-romans.co.uk/g9/09.marcus_aurelius_small.jpg"/>
          <p:cNvPicPr/>
          <p:nvPr/>
        </p:nvPicPr>
        <p:blipFill>
          <a:blip r:embed="rId1"/>
          <a:stretch/>
        </p:blipFill>
        <p:spPr>
          <a:xfrm>
            <a:off x="5334120" y="1905120"/>
            <a:ext cx="27334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ey Tr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44792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xes are _____b/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s are overplanted which makes th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lthy land owners make ______out of ______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d land for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owners wouldn’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imagecache2.allposters.com/images/pic/MEPOD/10025016~Roman-Farmers-Plowing-with-Oxen-Posters.jpg"/>
          <p:cNvPicPr/>
          <p:nvPr/>
        </p:nvPicPr>
        <p:blipFill>
          <a:blip r:embed="rId1"/>
          <a:srcRect l="18321" t="9147" r="11454" b="10853"/>
          <a:stretch/>
        </p:blipFill>
        <p:spPr>
          <a:xfrm>
            <a:off x="5423040" y="1447920"/>
            <a:ext cx="3355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Emperors attempt re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ocletian______ Rome (17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mpire is ___ ___ to be run by 1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s the empire into _______&amp;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tern Empire is ______; he control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photos.igougo.com/images/p79779-Split-Palace_of_Diocletian.jpg"/>
          <p:cNvPicPr/>
          <p:nvPr/>
        </p:nvPicPr>
        <p:blipFill>
          <a:blip r:embed="rId1"/>
          <a:stretch/>
        </p:blipFill>
        <p:spPr>
          <a:xfrm>
            <a:off x="5410080" y="1797120"/>
            <a:ext cx="27813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Emperors attempt re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an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ro starts t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persecuted and ________from R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lso creates a new ______ called Constantinop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rome.mrdonn.org/maprome.gif"/>
          <p:cNvPicPr/>
          <p:nvPr/>
        </p:nvPicPr>
        <p:blipFill>
          <a:blip r:embed="rId1"/>
          <a:srcRect l="3122" t="4555" r="0" b="4275"/>
          <a:stretch/>
        </p:blipFill>
        <p:spPr>
          <a:xfrm>
            <a:off x="4343400" y="2514600"/>
            <a:ext cx="4724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10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are a nomadic invader. How would you destroy a strong empire like Ro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ter the Hu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ic nom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terrifying of these are the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East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oy 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e cannot defend herself b/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10 AD Rome is _____ by the Visigo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76 Roman Emperor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emersonkent.com/images/attila_the_hun.jpg"/>
          <p:cNvPicPr/>
          <p:nvPr/>
        </p:nvPicPr>
        <p:blipFill>
          <a:blip r:embed="rId1"/>
          <a:stretch/>
        </p:blipFill>
        <p:spPr>
          <a:xfrm>
            <a:off x="4964040" y="1600200"/>
            <a:ext cx="35132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esar and the Declin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republic to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struggle leads to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s find trust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izen-soldi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esar was one of these ge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lh3.google.com/_uuSFdDYNAc4/RzgAkilSHrI/AAAAAAAABTc/0tPcKLw8P3c/s800/roman-army-10.jpg"/>
          <p:cNvPicPr/>
          <p:nvPr/>
        </p:nvPicPr>
        <p:blipFill>
          <a:blip r:embed="rId1"/>
          <a:stretch/>
        </p:blipFill>
        <p:spPr>
          <a:xfrm>
            <a:off x="4495680" y="1905120"/>
            <a:ext cx="41054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esar’s gl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the size of _________________ to rival that of At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res Gaul or modern day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ers the Senat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www.lewrockwell.com/carson/rome-caesar.jpg"/>
          <p:cNvPicPr/>
          <p:nvPr/>
        </p:nvPicPr>
        <p:blipFill>
          <a:blip r:embed="rId1"/>
          <a:stretch/>
        </p:blipFill>
        <p:spPr>
          <a:xfrm>
            <a:off x="4338720" y="2590920"/>
            <a:ext cx="48052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esar’s re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work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conquered ppl happy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ing them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gnizing their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s a new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www.the-romans.co.uk/gallery3/bigimages/16.caesar.jpg"/>
          <p:cNvPicPr/>
          <p:nvPr/>
        </p:nvPicPr>
        <p:blipFill>
          <a:blip r:embed="rId1"/>
          <a:stretch/>
        </p:blipFill>
        <p:spPr>
          <a:xfrm>
            <a:off x="5257800" y="1523880"/>
            <a:ext cx="30481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http://sp.rpcs.org/faculty/ShortJ/Pompey_the_Great/Personal%20Pictures/pompey.jpg"/>
          <p:cNvPicPr/>
          <p:nvPr/>
        </p:nvPicPr>
        <p:blipFill>
          <a:blip r:embed="rId1"/>
          <a:srcRect l="0" t="0" r="0" b="12694"/>
          <a:stretch/>
        </p:blipFill>
        <p:spPr>
          <a:xfrm>
            <a:off x="6095880" y="1066680"/>
            <a:ext cx="2676600" cy="3276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ackl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mpey:                      fears Caesar’s pop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Caesar keeps the Sen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ators plot to, and later do____________ Cae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http://www.the-romans.co.uk/gallery3/bigimages/15.death_of_caesar.jpg"/>
          <p:cNvPicPr/>
          <p:nvPr/>
        </p:nvPicPr>
        <p:blipFill>
          <a:blip r:embed="rId2"/>
          <a:stretch/>
        </p:blipFill>
        <p:spPr>
          <a:xfrm>
            <a:off x="0" y="1219320"/>
            <a:ext cx="915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04920" y="1371600"/>
          <a:ext cx="8381880" cy="548640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2" name="TextBox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 the following chart. Read 5.5 (173-77). How did each of the following lead to the fall of the Western Roman empire? Give me multiple examples for ea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10/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the Plebeians and Patricians participate in Roman government? Be specific for 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3:40:29Z</dcterms:created>
  <dc:creator>Christine Sturges</dc:creator>
  <dc:description/>
  <dc:language>en-US</dc:language>
  <cp:lastModifiedBy>IT Clone User</cp:lastModifiedBy>
  <dcterms:modified xsi:type="dcterms:W3CDTF">2009-10-07T12:47:58Z</dcterms:modified>
  <cp:revision>336</cp:revision>
  <dc:subject/>
  <dc:title>Caesar and the Decline of the Republic</dc:title>
</cp:coreProperties>
</file>