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wmf" ContentType="image/x-wmf"/>
  <Override PartName="/ppt/media/image4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D0CF-4EF8-4C05-B9CD-DA9D3C385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0AD3-4E8E-439F-A76F-FD235B3AC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64FE-11E2-4893-86E3-0B2649CDA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0C9F-FF93-4FA6-8128-482A6DFC9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304A-DB83-46B9-B2BD-D401E4D07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C390-4096-4303-8AD8-C047B0082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C1D2-48F1-44BD-90B7-4A93E2AB1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92C1-9C2B-486C-9EC8-B97AF3DBD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D7AC-F33D-47C4-8B55-64261F307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97CC-DF77-47B0-B892-691613EE4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DF2A-BD98-4DA7-B7DF-E4774E9DA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A07A-D2CC-4CA7-A3D3-06DC3DCB3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FEB62-1D14-42AD-B476-D33756387E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a/aa/Aug11_01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a/a1/Caligula_Bust_Houston_Museum.jpg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ounded Rectangle 4"/>
          <p:cNvSpPr/>
          <p:nvPr/>
        </p:nvSpPr>
        <p:spPr>
          <a:xfrm>
            <a:off x="1371600" y="2666880"/>
            <a:ext cx="289548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stellar"/>
              </a:rPr>
              <a:t>Consul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ounded Rectangle 5"/>
          <p:cNvSpPr/>
          <p:nvPr/>
        </p:nvSpPr>
        <p:spPr>
          <a:xfrm>
            <a:off x="3124080" y="1295280"/>
            <a:ext cx="289584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Senator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ounded Rectangle 6"/>
          <p:cNvSpPr/>
          <p:nvPr/>
        </p:nvSpPr>
        <p:spPr>
          <a:xfrm>
            <a:off x="4800600" y="2666880"/>
            <a:ext cx="289548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stellar"/>
              </a:rPr>
              <a:t>Consul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ed Rectangle 7"/>
          <p:cNvSpPr/>
          <p:nvPr/>
        </p:nvSpPr>
        <p:spPr>
          <a:xfrm>
            <a:off x="3124080" y="0"/>
            <a:ext cx="289584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stellar"/>
              </a:rPr>
              <a:t>Dictat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ounded Rectangle 8"/>
          <p:cNvSpPr/>
          <p:nvPr/>
        </p:nvSpPr>
        <p:spPr>
          <a:xfrm>
            <a:off x="609480" y="4038480"/>
            <a:ext cx="8001000" cy="1143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mienne"/>
              </a:rPr>
              <a:t>Tribunes: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ounded Rectangle 12"/>
          <p:cNvSpPr/>
          <p:nvPr/>
        </p:nvSpPr>
        <p:spPr>
          <a:xfrm>
            <a:off x="0" y="5334120"/>
            <a:ext cx="9144000" cy="1523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2 Tables: created by the____________ so that they could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14"/>
          <p:cNvSpPr/>
          <p:nvPr/>
        </p:nvSpPr>
        <p:spPr>
          <a:xfrm>
            <a:off x="0" y="99072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ebei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rici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Down Arrow 15"/>
          <p:cNvSpPr/>
          <p:nvPr/>
        </p:nvSpPr>
        <p:spPr>
          <a:xfrm>
            <a:off x="3352680" y="1905120"/>
            <a:ext cx="762120" cy="914400"/>
          </a:xfrm>
          <a:prstGeom prst="downArrow">
            <a:avLst>
              <a:gd name="adj1" fmla="val 50000"/>
              <a:gd name="adj2" fmla="val 49992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Down Arrow 16"/>
          <p:cNvSpPr/>
          <p:nvPr/>
        </p:nvSpPr>
        <p:spPr>
          <a:xfrm>
            <a:off x="4952880" y="1905120"/>
            <a:ext cx="762120" cy="914400"/>
          </a:xfrm>
          <a:prstGeom prst="downArrow">
            <a:avLst>
              <a:gd name="adj1" fmla="val 50000"/>
              <a:gd name="adj2" fmla="val 49992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Up Arrow 17"/>
          <p:cNvSpPr/>
          <p:nvPr/>
        </p:nvSpPr>
        <p:spPr>
          <a:xfrm>
            <a:off x="4191120" y="609480"/>
            <a:ext cx="685800" cy="838440"/>
          </a:xfrm>
          <a:prstGeom prst="upArrow">
            <a:avLst>
              <a:gd name="adj1" fmla="val 50000"/>
              <a:gd name="adj2" fmla="val 50012"/>
            </a:avLst>
          </a:prstGeom>
          <a:solidFill>
            <a:srgbClr val="3333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eft-Right Arrow 18"/>
          <p:cNvSpPr/>
          <p:nvPr/>
        </p:nvSpPr>
        <p:spPr>
          <a:xfrm>
            <a:off x="3733920" y="3276720"/>
            <a:ext cx="1752480" cy="457200"/>
          </a:xfrm>
          <a:prstGeom prst="leftRightArrow">
            <a:avLst>
              <a:gd name="adj1" fmla="val 50000"/>
              <a:gd name="adj2" fmla="val 49989"/>
            </a:avLst>
          </a:prstGeom>
          <a:solidFill>
            <a:srgbClr val="7030a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Down Arrow 19"/>
          <p:cNvSpPr/>
          <p:nvPr/>
        </p:nvSpPr>
        <p:spPr>
          <a:xfrm>
            <a:off x="1219320" y="5181480"/>
            <a:ext cx="685800" cy="990720"/>
          </a:xfrm>
          <a:prstGeom prst="downArrow">
            <a:avLst>
              <a:gd name="adj1" fmla="val 50000"/>
              <a:gd name="adj2" fmla="val 50006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Down Arrow 20"/>
          <p:cNvSpPr/>
          <p:nvPr/>
        </p:nvSpPr>
        <p:spPr>
          <a:xfrm>
            <a:off x="4191120" y="5181480"/>
            <a:ext cx="685800" cy="5335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Down Arrow 21"/>
          <p:cNvSpPr/>
          <p:nvPr/>
        </p:nvSpPr>
        <p:spPr>
          <a:xfrm>
            <a:off x="7620120" y="5181480"/>
            <a:ext cx="685800" cy="990720"/>
          </a:xfrm>
          <a:prstGeom prst="downArrow">
            <a:avLst>
              <a:gd name="adj1" fmla="val 50000"/>
              <a:gd name="adj2" fmla="val 50006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ugus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lted On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 famous uncle never hurt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0" y="1447920"/>
            <a:ext cx="46483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_______is his greatun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ctavian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fter JC’s assassin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 Antony and Octavia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ctavian is victori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Image:Aug11 0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00600" y="1676520"/>
            <a:ext cx="360036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rom Octavian to Augus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0" y="1523520"/>
            <a:ext cx="44956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nate calls Oct. _________ mea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though Augustus has absolute pow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gustus makes reform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4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" descr="http://upload.wikimedia.org/wikipedia/commons/5/5e/002_Augustus.jpg"/>
          <p:cNvPicPr/>
          <p:nvPr/>
        </p:nvPicPr>
        <p:blipFill>
          <a:blip r:embed="rId1"/>
          <a:stretch/>
        </p:blipFill>
        <p:spPr>
          <a:xfrm>
            <a:off x="4876920" y="2895480"/>
            <a:ext cx="29527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uccess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-360" y="1447920"/>
            <a:ext cx="47242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mans did not like the idea of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ath of a ruler lead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ccessors vari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ligul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r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dria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cus Aureliu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Image:Caligula Bust Houston Museum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67080" y="3048120"/>
            <a:ext cx="1873440" cy="28191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http://www.artchive.com/artchive/r/roman/roman_nero.jpg"/>
          <p:cNvPicPr/>
          <p:nvPr/>
        </p:nvPicPr>
        <p:blipFill>
          <a:blip r:embed="rId3"/>
          <a:stretch/>
        </p:blipFill>
        <p:spPr>
          <a:xfrm>
            <a:off x="6553080" y="990720"/>
            <a:ext cx="2266920" cy="37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Journal 10/3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y name is Otik and I am from a far away land. What is this Halloween thing you speak of? What is the history of this candy-day? What is its purpos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C:\Documents and Settings\csturge\Local Settings\Temporary Internet Files\Content.IE5\CX3UYYSL\MCj04082260000[1].wmf"/>
          <p:cNvPicPr/>
          <p:nvPr/>
        </p:nvPicPr>
        <p:blipFill>
          <a:blip r:embed="rId1"/>
          <a:stretch/>
        </p:blipFill>
        <p:spPr>
          <a:xfrm>
            <a:off x="6705720" y="4724280"/>
            <a:ext cx="1860480" cy="15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F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Roman Empire spl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nd of the </a:t>
            </a: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Pax Rom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76320" y="1676160"/>
            <a:ext cx="4038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cus Aurelius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litical problems ar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mperors don’t rule long b/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50 yrs there are ____ emperors; only ____dies a natural de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http://www.the-romans.co.uk/g9/09.marcus_aurelius_small.jpg"/>
          <p:cNvPicPr/>
          <p:nvPr/>
        </p:nvPicPr>
        <p:blipFill>
          <a:blip r:embed="rId1"/>
          <a:stretch/>
        </p:blipFill>
        <p:spPr>
          <a:xfrm>
            <a:off x="5334120" y="1905120"/>
            <a:ext cx="2733480" cy="37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oney Trou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-360" y="1447920"/>
            <a:ext cx="47242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xes are _____b/c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elds are overplanted which makes the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althy land owners make ______out of ______ 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rked land for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ndowners wouldn’t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http://imagecache2.allposters.com/images/pic/MEPOD/10025016~Roman-Farmers-Plowing-with-Oxen-Posters.jpg"/>
          <p:cNvPicPr/>
          <p:nvPr/>
        </p:nvPicPr>
        <p:blipFill>
          <a:blip r:embed="rId1"/>
          <a:srcRect l="18321" t="9147" r="11454" b="10853"/>
          <a:stretch/>
        </p:blipFill>
        <p:spPr>
          <a:xfrm>
            <a:off x="5423040" y="1447920"/>
            <a:ext cx="335592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wo Emperors attempt refo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-360" y="1523520"/>
            <a:ext cx="47242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ocletian______ Rome (17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mpire is ___ ___ to be run by 1 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vides the empire into _______&amp;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stern Empire is ______; he controls th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" descr="http://photos.igougo.com/images/p79779-Split-Palace_of_Diocletian.jpg"/>
          <p:cNvPicPr/>
          <p:nvPr/>
        </p:nvPicPr>
        <p:blipFill>
          <a:blip r:embed="rId1"/>
          <a:stretch/>
        </p:blipFill>
        <p:spPr>
          <a:xfrm>
            <a:off x="5410080" y="1797120"/>
            <a:ext cx="2781360" cy="40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wo Emperors attempt refo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-360" y="1523520"/>
            <a:ext cx="47242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stant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ro starts th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are persecuted and ________from Ro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tantin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also creates a new ______ called Constantinople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" descr="http://rome.mrdonn.org/maprome.gif"/>
          <p:cNvPicPr/>
          <p:nvPr/>
        </p:nvPicPr>
        <p:blipFill>
          <a:blip r:embed="rId1"/>
          <a:srcRect l="3122" t="4555" r="0" b="4275"/>
          <a:stretch/>
        </p:blipFill>
        <p:spPr>
          <a:xfrm>
            <a:off x="4343400" y="2514600"/>
            <a:ext cx="47242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Journal 10/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0" y="198072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ou are a nomadic invader. How would you destroy a strong empire like Rom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nter the Hun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0" y="1371600"/>
            <a:ext cx="51055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rmanic noma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t terrifying of these are the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om East 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troy al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me cannot defend herself b/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10 AD Rome is _____ by the Visigot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76 Roman Emperor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" descr="http://www.emersonkent.com/images/attila_the_hun.jpg"/>
          <p:cNvPicPr/>
          <p:nvPr/>
        </p:nvPicPr>
        <p:blipFill>
          <a:blip r:embed="rId1"/>
          <a:stretch/>
        </p:blipFill>
        <p:spPr>
          <a:xfrm>
            <a:off x="4964040" y="1600200"/>
            <a:ext cx="3513240" cy="42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aesar and the Decline of the Republ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rom republic to empi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44956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ass struggle leads to 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mans find trust 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itizen-soldier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esar was one of these gener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http://lh3.google.com/_uuSFdDYNAc4/RzgAkilSHrI/AAAAAAAABTc/0tPcKLw8P3c/s800/roman-army-10.jpg"/>
          <p:cNvPicPr/>
          <p:nvPr/>
        </p:nvPicPr>
        <p:blipFill>
          <a:blip r:embed="rId1"/>
          <a:stretch/>
        </p:blipFill>
        <p:spPr>
          <a:xfrm>
            <a:off x="4495680" y="1905120"/>
            <a:ext cx="4105440" cy="37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aesar’s gl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-360" y="1447920"/>
            <a:ext cx="4800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reased the size of _________________ to rival that of At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qures Gaul or modern day 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ders the Senate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http://www.lewrockwell.com/carson/rome-caesar.jpg"/>
          <p:cNvPicPr/>
          <p:nvPr/>
        </p:nvPicPr>
        <p:blipFill>
          <a:blip r:embed="rId1"/>
          <a:stretch/>
        </p:blipFill>
        <p:spPr>
          <a:xfrm>
            <a:off x="4338720" y="2590920"/>
            <a:ext cx="4805280" cy="36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aesar’s refo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447920"/>
            <a:ext cx="47242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blic works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kes conquered ppl happy 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anting them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ognizing their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roduces a new 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http://www.the-romans.co.uk/gallery3/bigimages/16.caesar.jpg"/>
          <p:cNvPicPr/>
          <p:nvPr/>
        </p:nvPicPr>
        <p:blipFill>
          <a:blip r:embed="rId1"/>
          <a:stretch/>
        </p:blipFill>
        <p:spPr>
          <a:xfrm>
            <a:off x="5257800" y="1523880"/>
            <a:ext cx="3048120" cy="29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7" descr="http://sp.rpcs.org/faculty/ShortJ/Pompey_the_Great/Personal%20Pictures/pompey.jpg"/>
          <p:cNvPicPr/>
          <p:nvPr/>
        </p:nvPicPr>
        <p:blipFill>
          <a:blip r:embed="rId1"/>
          <a:srcRect l="0" t="0" r="0" b="12694"/>
          <a:stretch/>
        </p:blipFill>
        <p:spPr>
          <a:xfrm>
            <a:off x="6095880" y="1066680"/>
            <a:ext cx="2676600" cy="327672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Backlas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-360" y="1523520"/>
            <a:ext cx="47242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mpey:                      fears Caesar’s popula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though Caesar keeps the Sena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nators plot to, and later do____________ Caes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http://www.the-romans.co.uk/gallery3/bigimages/15.death_of_caesar.jpg"/>
          <p:cNvPicPr/>
          <p:nvPr/>
        </p:nvPicPr>
        <p:blipFill>
          <a:blip r:embed="rId2"/>
          <a:stretch/>
        </p:blipFill>
        <p:spPr>
          <a:xfrm>
            <a:off x="0" y="1219320"/>
            <a:ext cx="91598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304920" y="1371600"/>
          <a:ext cx="8381880" cy="5486400"/>
        </p:xfrm>
        <a:graphic>
          <a:graphicData uri="http://schemas.openxmlformats.org/drawingml/2006/table">
            <a:tbl>
              <a:tblPr/>
              <a:tblGrid>
                <a:gridCol w="2095560"/>
                <a:gridCol w="2095200"/>
                <a:gridCol w="2095560"/>
                <a:gridCol w="2095560"/>
              </a:tblGrid>
              <a:tr h="130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litar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litica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conom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18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72" name="TextBox 2"/>
          <p:cNvSpPr/>
          <p:nvPr/>
        </p:nvSpPr>
        <p:spPr>
          <a:xfrm>
            <a:off x="0" y="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py the following chart. Read 5.5 (173-77). How did each of the following lead to the fall of the Western Roman empire? Give me multiple examples for each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Journal 10/2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did the Plebeians and Patricians participate in Roman government? Be specific for eac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6T23:40:29Z</dcterms:created>
  <dc:creator>Christine Sturges</dc:creator>
  <dc:description/>
  <dc:language>en-US</dc:language>
  <cp:lastModifiedBy>IT Clone User</cp:lastModifiedBy>
  <dcterms:modified xsi:type="dcterms:W3CDTF">2009-10-07T12:47:58Z</dcterms:modified>
  <cp:revision>336</cp:revision>
  <dc:subject/>
  <dc:title>Caesar and the Decline of the Republic</dc:title>
</cp:coreProperties>
</file>