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5434E-FCF8-411E-AC6E-7C38F1B25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FF094-38A6-4BBF-8C3B-6011B051D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927075-4B8B-443F-9A30-1C7F76D74D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4C1209-CB90-41A6-9EA2-3E5D84159C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AE8FC-F573-4763-89A0-26F01E067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6B531-45D0-40E2-893E-4E4E97C15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C7F512-31EB-4FBC-9CA7-74A0D7F34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7DDDD-D010-4A7E-BFFB-256FBFBE8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FDE10-1D16-484D-B229-CFAA543583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BE0B0-5B35-47BA-9C9A-982804C7E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F4868-924E-4278-9505-7D1EEBF6E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C7CF4-CDF6-4430-A002-2917B84136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A0D49-68C9-4159-83AF-465D9D49774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3"/>
          <p:cNvSpPr/>
          <p:nvPr/>
        </p:nvSpPr>
        <p:spPr>
          <a:xfrm>
            <a:off x="228600" y="228600"/>
            <a:ext cx="8686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mplete the flow chart: </a:t>
            </a:r>
            <a:r>
              <a:rPr b="0" lang="en-US" sz="1800" spc="-1" strike="noStrike">
                <a:solidFill>
                  <a:srgbClr val="000000"/>
                </a:solidFill>
                <a:latin typeface="Calibri"/>
              </a:rPr>
              <a:t>Fallow innovations from the Early 1800s to the 2</a:t>
            </a:r>
            <a:r>
              <a:rPr b="0" lang="en-US" sz="1800" spc="-1" strike="noStrike" baseline="30000">
                <a:solidFill>
                  <a:srgbClr val="000000"/>
                </a:solidFill>
                <a:latin typeface="Calibri"/>
              </a:rPr>
              <a:t>nd</a:t>
            </a:r>
            <a:r>
              <a:rPr b="0" lang="en-US" sz="1800" spc="-1" strike="noStrike">
                <a:solidFill>
                  <a:srgbClr val="000000"/>
                </a:solidFill>
                <a:latin typeface="Calibri"/>
              </a:rPr>
              <a:t> Industrial Revolution.</a:t>
            </a:r>
            <a:endParaRPr b="0" lang="en-US" sz="1800" spc="-1" strike="noStrike">
              <a:solidFill>
                <a:srgbClr val="000000"/>
              </a:solidFill>
              <a:latin typeface="Calibri"/>
            </a:endParaRPr>
          </a:p>
        </p:txBody>
      </p:sp>
      <p:sp>
        <p:nvSpPr>
          <p:cNvPr id="42" name="Rectangle 5"/>
          <p:cNvSpPr/>
          <p:nvPr/>
        </p:nvSpPr>
        <p:spPr>
          <a:xfrm>
            <a:off x="762120" y="990720"/>
            <a:ext cx="2286000" cy="12189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ly 1800s</a:t>
            </a:r>
            <a:endParaRPr b="0" lang="en-US" sz="3200" spc="-1" strike="noStrike">
              <a:solidFill>
                <a:srgbClr val="000000"/>
              </a:solidFill>
              <a:latin typeface="Calibri"/>
            </a:endParaRPr>
          </a:p>
        </p:txBody>
      </p:sp>
      <p:sp>
        <p:nvSpPr>
          <p:cNvPr id="43" name="Rectangle 6"/>
          <p:cNvSpPr/>
          <p:nvPr/>
        </p:nvSpPr>
        <p:spPr>
          <a:xfrm>
            <a:off x="3429000" y="990720"/>
            <a:ext cx="2286000" cy="12189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uman and Animal power</a:t>
            </a:r>
            <a:endParaRPr b="0" lang="en-US" sz="2800" spc="-1" strike="noStrike">
              <a:solidFill>
                <a:srgbClr val="000000"/>
              </a:solidFill>
              <a:latin typeface="Calibri"/>
            </a:endParaRPr>
          </a:p>
        </p:txBody>
      </p:sp>
      <p:sp>
        <p:nvSpPr>
          <p:cNvPr id="44" name="Rectangle 8"/>
          <p:cNvSpPr/>
          <p:nvPr/>
        </p:nvSpPr>
        <p:spPr>
          <a:xfrm>
            <a:off x="6172200" y="990720"/>
            <a:ext cx="2286000" cy="12189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Rectangle 9"/>
          <p:cNvSpPr/>
          <p:nvPr/>
        </p:nvSpPr>
        <p:spPr>
          <a:xfrm>
            <a:off x="6172200" y="2590920"/>
            <a:ext cx="2286000" cy="12189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en-US" sz="2800" spc="-1" strike="noStrike" baseline="30000">
                <a:solidFill>
                  <a:srgbClr val="000000"/>
                </a:solidFill>
                <a:latin typeface="Calibri"/>
              </a:rPr>
              <a:t>st</a:t>
            </a:r>
            <a:r>
              <a:rPr b="0" lang="en-US" sz="2800" spc="-1" strike="noStrike">
                <a:solidFill>
                  <a:srgbClr val="000000"/>
                </a:solidFill>
                <a:latin typeface="Calibri"/>
              </a:rPr>
              <a:t> Industrial Rev.</a:t>
            </a:r>
            <a:endParaRPr b="0" lang="en-US" sz="2800" spc="-1" strike="noStrike">
              <a:solidFill>
                <a:srgbClr val="000000"/>
              </a:solidFill>
              <a:latin typeface="Calibri"/>
            </a:endParaRPr>
          </a:p>
        </p:txBody>
      </p:sp>
      <p:sp>
        <p:nvSpPr>
          <p:cNvPr id="46" name="Rectangle 10"/>
          <p:cNvSpPr/>
          <p:nvPr/>
        </p:nvSpPr>
        <p:spPr>
          <a:xfrm>
            <a:off x="3429000" y="2590920"/>
            <a:ext cx="2286000" cy="12189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Rectangle 11"/>
          <p:cNvSpPr/>
          <p:nvPr/>
        </p:nvSpPr>
        <p:spPr>
          <a:xfrm>
            <a:off x="762120" y="2590920"/>
            <a:ext cx="2286000" cy="12189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Englishman converts iron to _______________</a:t>
            </a:r>
            <a:endParaRPr b="0" lang="en-US" sz="2000" spc="-1" strike="noStrike">
              <a:solidFill>
                <a:srgbClr val="000000"/>
              </a:solidFill>
              <a:latin typeface="Calibri"/>
            </a:endParaRPr>
          </a:p>
        </p:txBody>
      </p:sp>
      <p:sp>
        <p:nvSpPr>
          <p:cNvPr id="48" name="Rectangle 12"/>
          <p:cNvSpPr/>
          <p:nvPr/>
        </p:nvSpPr>
        <p:spPr>
          <a:xfrm>
            <a:off x="762120" y="4191120"/>
            <a:ext cx="2286000" cy="12189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3"/>
          <p:cNvSpPr/>
          <p:nvPr/>
        </p:nvSpPr>
        <p:spPr>
          <a:xfrm>
            <a:off x="3429000" y="4191120"/>
            <a:ext cx="2286000" cy="12189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ap steel = BOOMING Industry</a:t>
            </a:r>
            <a:endParaRPr b="0" lang="en-US" sz="2000" spc="-1" strike="noStrike">
              <a:solidFill>
                <a:srgbClr val="000000"/>
              </a:solidFill>
              <a:latin typeface="Calibri"/>
            </a:endParaRPr>
          </a:p>
        </p:txBody>
      </p:sp>
      <p:sp>
        <p:nvSpPr>
          <p:cNvPr id="50" name="Rectangle 16"/>
          <p:cNvSpPr/>
          <p:nvPr/>
        </p:nvSpPr>
        <p:spPr>
          <a:xfrm>
            <a:off x="6172200" y="4191120"/>
            <a:ext cx="2286000" cy="12189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en-US" sz="2800" spc="-1" strike="noStrike" baseline="30000">
                <a:solidFill>
                  <a:srgbClr val="000000"/>
                </a:solidFill>
                <a:latin typeface="Calibri"/>
              </a:rPr>
              <a:t>nd</a:t>
            </a:r>
            <a:r>
              <a:rPr b="0" lang="en-US" sz="2800" spc="-1" strike="noStrike">
                <a:solidFill>
                  <a:srgbClr val="000000"/>
                </a:solidFill>
                <a:latin typeface="Calibri"/>
              </a:rPr>
              <a:t> ________ Rev.</a:t>
            </a:r>
            <a:endParaRPr b="0" lang="en-US" sz="2800" spc="-1" strike="noStrike">
              <a:solidFill>
                <a:srgbClr val="000000"/>
              </a:solidFill>
              <a:latin typeface="Calibri"/>
            </a:endParaRPr>
          </a:p>
        </p:txBody>
      </p:sp>
      <p:cxnSp>
        <p:nvCxnSpPr>
          <p:cNvPr id="51" name="Straight Arrow Connector 18"/>
          <p:cNvCxnSpPr>
            <a:stCxn id="42" idx="3"/>
            <a:endCxn id="43" idx="1"/>
          </p:cNvCxnSpPr>
          <p:nvPr/>
        </p:nvCxnSpPr>
        <p:spPr>
          <a:xfrm>
            <a:off x="3048120" y="1600200"/>
            <a:ext cx="381240" cy="360"/>
          </a:xfrm>
          <a:prstGeom prst="straightConnector1">
            <a:avLst/>
          </a:prstGeom>
          <a:ln w="22320">
            <a:solidFill>
              <a:srgbClr val="4a7ebb"/>
            </a:solidFill>
            <a:miter/>
            <a:tailEnd len="med" type="arrow" w="med"/>
          </a:ln>
        </p:spPr>
      </p:cxnSp>
      <p:cxnSp>
        <p:nvCxnSpPr>
          <p:cNvPr id="52" name="Straight Arrow Connector 19"/>
          <p:cNvCxnSpPr>
            <a:endCxn id="44" idx="1"/>
          </p:cNvCxnSpPr>
          <p:nvPr/>
        </p:nvCxnSpPr>
        <p:spPr>
          <a:xfrm>
            <a:off x="5715000" y="1600200"/>
            <a:ext cx="457560" cy="360"/>
          </a:xfrm>
          <a:prstGeom prst="straightConnector1">
            <a:avLst/>
          </a:prstGeom>
          <a:ln w="22320">
            <a:solidFill>
              <a:srgbClr val="4a7ebb"/>
            </a:solidFill>
            <a:miter/>
            <a:tailEnd len="med" type="arrow" w="med"/>
          </a:ln>
        </p:spPr>
      </p:cxnSp>
      <p:cxnSp>
        <p:nvCxnSpPr>
          <p:cNvPr id="53" name="Straight Arrow Connector 21"/>
          <p:cNvCxnSpPr/>
          <p:nvPr/>
        </p:nvCxnSpPr>
        <p:spPr>
          <a:xfrm>
            <a:off x="3048120" y="4800600"/>
            <a:ext cx="381600" cy="2160"/>
          </a:xfrm>
          <a:prstGeom prst="straightConnector1">
            <a:avLst/>
          </a:prstGeom>
          <a:ln w="22320">
            <a:solidFill>
              <a:srgbClr val="4a7ebb"/>
            </a:solidFill>
            <a:miter/>
            <a:tailEnd len="med" type="arrow" w="med"/>
          </a:ln>
        </p:spPr>
      </p:cxnSp>
      <p:cxnSp>
        <p:nvCxnSpPr>
          <p:cNvPr id="54" name="Straight Arrow Connector 22"/>
          <p:cNvCxnSpPr/>
          <p:nvPr/>
        </p:nvCxnSpPr>
        <p:spPr>
          <a:xfrm>
            <a:off x="5715000" y="4799160"/>
            <a:ext cx="457920" cy="2160"/>
          </a:xfrm>
          <a:prstGeom prst="straightConnector1">
            <a:avLst/>
          </a:prstGeom>
          <a:ln w="22320">
            <a:solidFill>
              <a:srgbClr val="4a7ebb"/>
            </a:solidFill>
            <a:miter/>
            <a:tailEnd len="med" type="arrow" w="med"/>
          </a:ln>
        </p:spPr>
      </p:cxnSp>
      <p:cxnSp>
        <p:nvCxnSpPr>
          <p:cNvPr id="55" name="Straight Arrow Connector 24"/>
          <p:cNvCxnSpPr>
            <a:stCxn id="44" idx="2"/>
            <a:endCxn id="45" idx="0"/>
          </p:cNvCxnSpPr>
          <p:nvPr/>
        </p:nvCxnSpPr>
        <p:spPr>
          <a:xfrm>
            <a:off x="7315200" y="2209680"/>
            <a:ext cx="360" cy="381600"/>
          </a:xfrm>
          <a:prstGeom prst="straightConnector1">
            <a:avLst/>
          </a:prstGeom>
          <a:ln w="22320">
            <a:solidFill>
              <a:srgbClr val="4a7ebb"/>
            </a:solidFill>
            <a:miter/>
            <a:tailEnd len="med" type="arrow" w="med"/>
          </a:ln>
        </p:spPr>
      </p:cxnSp>
      <p:cxnSp>
        <p:nvCxnSpPr>
          <p:cNvPr id="56" name="Straight Arrow Connector 25"/>
          <p:cNvCxnSpPr>
            <a:endCxn id="48" idx="0"/>
          </p:cNvCxnSpPr>
          <p:nvPr/>
        </p:nvCxnSpPr>
        <p:spPr>
          <a:xfrm flipH="1">
            <a:off x="1905120" y="3809520"/>
            <a:ext cx="1800" cy="381960"/>
          </a:xfrm>
          <a:prstGeom prst="straightConnector1">
            <a:avLst/>
          </a:prstGeom>
          <a:ln w="22320">
            <a:solidFill>
              <a:srgbClr val="4a7ebb"/>
            </a:solidFill>
            <a:miter/>
            <a:tailEnd len="med" type="arrow" w="med"/>
          </a:ln>
        </p:spPr>
      </p:cxnSp>
      <p:cxnSp>
        <p:nvCxnSpPr>
          <p:cNvPr id="57" name="Straight Arrow Connector 28"/>
          <p:cNvCxnSpPr>
            <a:stCxn id="45" idx="1"/>
            <a:endCxn id="46" idx="3"/>
          </p:cNvCxnSpPr>
          <p:nvPr/>
        </p:nvCxnSpPr>
        <p:spPr>
          <a:xfrm flipH="1">
            <a:off x="5715000" y="3200400"/>
            <a:ext cx="457560" cy="360"/>
          </a:xfrm>
          <a:prstGeom prst="straightConnector1">
            <a:avLst/>
          </a:prstGeom>
          <a:ln w="22320">
            <a:solidFill>
              <a:srgbClr val="4a7ebb"/>
            </a:solidFill>
            <a:miter/>
            <a:tailEnd len="med" type="arrow" w="med"/>
          </a:ln>
        </p:spPr>
      </p:cxnSp>
      <p:cxnSp>
        <p:nvCxnSpPr>
          <p:cNvPr id="58" name="Straight Arrow Connector 29"/>
          <p:cNvCxnSpPr/>
          <p:nvPr/>
        </p:nvCxnSpPr>
        <p:spPr>
          <a:xfrm flipH="1" flipV="1">
            <a:off x="2971440" y="3200040"/>
            <a:ext cx="457920" cy="2160"/>
          </a:xfrm>
          <a:prstGeom prst="straightConnector1">
            <a:avLst/>
          </a:prstGeom>
          <a:ln w="2232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3"/>
          <p:cNvSpPr/>
          <p:nvPr/>
        </p:nvSpPr>
        <p:spPr>
          <a:xfrm>
            <a:off x="228600" y="192240"/>
            <a:ext cx="8763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uring the 2</a:t>
            </a:r>
            <a:r>
              <a:rPr b="0" lang="en-US" sz="1800" spc="-1" strike="noStrike" baseline="30000">
                <a:solidFill>
                  <a:srgbClr val="000000"/>
                </a:solidFill>
                <a:latin typeface="Calibri"/>
              </a:rPr>
              <a:t>nd</a:t>
            </a:r>
            <a:r>
              <a:rPr b="0" lang="en-US" sz="1800" spc="-1" strike="noStrike">
                <a:solidFill>
                  <a:srgbClr val="000000"/>
                </a:solidFill>
                <a:latin typeface="Calibri"/>
              </a:rPr>
              <a:t> Industrial Rev. oil goes from joke to million dollar prospect. On the graph below chart oil’s rise and fall in the late 19</a:t>
            </a:r>
            <a:r>
              <a:rPr b="0" lang="en-US" sz="1800" spc="-1" strike="noStrike" baseline="30000">
                <a:solidFill>
                  <a:srgbClr val="000000"/>
                </a:solidFill>
                <a:latin typeface="Calibri"/>
              </a:rPr>
              <a:t>th</a:t>
            </a:r>
            <a:r>
              <a:rPr b="0" lang="en-US" sz="1800" spc="-1" strike="noStrike">
                <a:solidFill>
                  <a:srgbClr val="000000"/>
                </a:solidFill>
                <a:latin typeface="Calibri"/>
              </a:rPr>
              <a:t> and early 20</a:t>
            </a:r>
            <a:r>
              <a:rPr b="0" lang="en-US" sz="1800" spc="-1" strike="noStrike" baseline="30000">
                <a:solidFill>
                  <a:srgbClr val="000000"/>
                </a:solidFill>
                <a:latin typeface="Calibri"/>
              </a:rPr>
              <a:t>th</a:t>
            </a:r>
            <a:r>
              <a:rPr b="0" lang="en-US" sz="1800" spc="-1" strike="noStrike">
                <a:solidFill>
                  <a:srgbClr val="000000"/>
                </a:solidFill>
                <a:latin typeface="Calibri"/>
              </a:rPr>
              <a:t> century.</a:t>
            </a:r>
            <a:endParaRPr b="0" lang="en-US" sz="1800" spc="-1" strike="noStrike">
              <a:solidFill>
                <a:srgbClr val="000000"/>
              </a:solidFill>
              <a:latin typeface="Calibri"/>
            </a:endParaRPr>
          </a:p>
        </p:txBody>
      </p:sp>
      <p:sp>
        <p:nvSpPr>
          <p:cNvPr id="60" name="TextBox 10"/>
          <p:cNvSpPr/>
          <p:nvPr/>
        </p:nvSpPr>
        <p:spPr>
          <a:xfrm>
            <a:off x="0" y="632448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50s</a:t>
            </a:r>
            <a:r>
              <a:rPr b="0" lang="en-US" sz="1800" spc="-1" strike="noStrike">
                <a:solidFill>
                  <a:srgbClr val="000000"/>
                </a:solidFill>
                <a:latin typeface="Calibri"/>
              </a:rPr>
              <a:t>	</a:t>
            </a:r>
            <a:r>
              <a:rPr b="0" lang="en-US" sz="1800" spc="-1" strike="noStrike">
                <a:solidFill>
                  <a:srgbClr val="000000"/>
                </a:solidFill>
                <a:latin typeface="Calibri"/>
              </a:rPr>
              <a:t>     1859    1860-1890s</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1" lang="en-US" sz="1800" spc="-1" strike="noStrike">
                <a:solidFill>
                  <a:srgbClr val="000000"/>
                </a:solidFill>
                <a:latin typeface="Calibri"/>
              </a:rPr>
              <a:t>1901-1902!</a:t>
            </a:r>
            <a:r>
              <a:rPr b="1" lang="en-US" sz="1800" spc="-1" strike="noStrike">
                <a:solidFill>
                  <a:srgbClr val="000000"/>
                </a:solidFill>
                <a:latin typeface="Calibri"/>
              </a:rPr>
              <a:t>	</a:t>
            </a:r>
            <a:r>
              <a:rPr b="1" lang="en-US" sz="1800" spc="-1" strike="noStrike">
                <a:solidFill>
                  <a:srgbClr val="000000"/>
                </a:solidFill>
                <a:latin typeface="Calibri"/>
              </a:rPr>
              <a:t>   </a:t>
            </a:r>
            <a:r>
              <a:rPr b="0" lang="en-US" sz="1800" spc="-1" strike="noStrike">
                <a:solidFill>
                  <a:srgbClr val="000000"/>
                </a:solidFill>
                <a:latin typeface="Calibri"/>
              </a:rPr>
              <a:t>1904        The Future………</a:t>
            </a:r>
            <a:endParaRPr b="0" lang="en-US" sz="1800" spc="-1" strike="noStrike">
              <a:solidFill>
                <a:srgbClr val="000000"/>
              </a:solidFill>
              <a:latin typeface="Calibri"/>
            </a:endParaRPr>
          </a:p>
        </p:txBody>
      </p:sp>
      <p:sp>
        <p:nvSpPr>
          <p:cNvPr id="61" name="Freeform 11"/>
          <p:cNvSpPr/>
          <p:nvPr/>
        </p:nvSpPr>
        <p:spPr>
          <a:xfrm>
            <a:off x="-30240" y="1496880"/>
            <a:ext cx="9132840" cy="4473720"/>
          </a:xfrm>
          <a:custGeom>
            <a:avLst/>
            <a:gdLst/>
            <a:ahLst/>
            <a:rect l="l" t="t" r="r" b="b"/>
            <a:pathLst>
              <a:path w="9132784" h="4475018">
                <a:moveTo>
                  <a:pt x="16493" y="4475018"/>
                </a:moveTo>
                <a:cubicBezTo>
                  <a:pt x="164891" y="4425554"/>
                  <a:pt x="0" y="4475018"/>
                  <a:pt x="376712" y="4475018"/>
                </a:cubicBezTo>
                <a:cubicBezTo>
                  <a:pt x="473804" y="4475018"/>
                  <a:pt x="570621" y="4464453"/>
                  <a:pt x="667657" y="4461164"/>
                </a:cubicBezTo>
                <a:lnTo>
                  <a:pt x="1194130" y="4447309"/>
                </a:lnTo>
                <a:cubicBezTo>
                  <a:pt x="1221839" y="4438073"/>
                  <a:pt x="1252955" y="4435801"/>
                  <a:pt x="1277257" y="4419600"/>
                </a:cubicBezTo>
                <a:cubicBezTo>
                  <a:pt x="1291112" y="4410364"/>
                  <a:pt x="1302455" y="4394960"/>
                  <a:pt x="1318821" y="4391891"/>
                </a:cubicBezTo>
                <a:cubicBezTo>
                  <a:pt x="1378003" y="4380794"/>
                  <a:pt x="1438809" y="4381376"/>
                  <a:pt x="1498930" y="4378036"/>
                </a:cubicBezTo>
                <a:cubicBezTo>
                  <a:pt x="1605085" y="4372139"/>
                  <a:pt x="1711366" y="4368800"/>
                  <a:pt x="1817584" y="4364182"/>
                </a:cubicBezTo>
                <a:cubicBezTo>
                  <a:pt x="1826820" y="4350327"/>
                  <a:pt x="1834328" y="4335149"/>
                  <a:pt x="1845293" y="4322618"/>
                </a:cubicBezTo>
                <a:cubicBezTo>
                  <a:pt x="1866797" y="4298042"/>
                  <a:pt x="1896452" y="4280516"/>
                  <a:pt x="1914566" y="4253345"/>
                </a:cubicBezTo>
                <a:lnTo>
                  <a:pt x="1969984" y="4170218"/>
                </a:lnTo>
                <a:cubicBezTo>
                  <a:pt x="2055266" y="4042294"/>
                  <a:pt x="1946438" y="4199649"/>
                  <a:pt x="2025403" y="4100945"/>
                </a:cubicBezTo>
                <a:cubicBezTo>
                  <a:pt x="2035805" y="4087943"/>
                  <a:pt x="2037896" y="4066145"/>
                  <a:pt x="2053112" y="4059382"/>
                </a:cubicBezTo>
                <a:cubicBezTo>
                  <a:pt x="2082953" y="4046119"/>
                  <a:pt x="2117690" y="4049577"/>
                  <a:pt x="2150093" y="4045527"/>
                </a:cubicBezTo>
                <a:cubicBezTo>
                  <a:pt x="2191589" y="4040340"/>
                  <a:pt x="2233385" y="4037587"/>
                  <a:pt x="2274784" y="4031673"/>
                </a:cubicBezTo>
                <a:cubicBezTo>
                  <a:pt x="2298096" y="4028343"/>
                  <a:pt x="2320638" y="4020283"/>
                  <a:pt x="2344057" y="4017818"/>
                </a:cubicBezTo>
                <a:cubicBezTo>
                  <a:pt x="2408520" y="4011032"/>
                  <a:pt x="2473366" y="4008582"/>
                  <a:pt x="2538021" y="4003964"/>
                </a:cubicBezTo>
                <a:cubicBezTo>
                  <a:pt x="2611177" y="3979578"/>
                  <a:pt x="2567434" y="3998209"/>
                  <a:pt x="2662712" y="3934691"/>
                </a:cubicBezTo>
                <a:lnTo>
                  <a:pt x="2704275" y="3906982"/>
                </a:lnTo>
                <a:lnTo>
                  <a:pt x="2759693" y="3823854"/>
                </a:lnTo>
                <a:cubicBezTo>
                  <a:pt x="2768929" y="3809999"/>
                  <a:pt x="2773549" y="3791527"/>
                  <a:pt x="2787403" y="3782291"/>
                </a:cubicBezTo>
                <a:lnTo>
                  <a:pt x="2828966" y="3754582"/>
                </a:lnTo>
                <a:lnTo>
                  <a:pt x="2884384" y="3671454"/>
                </a:lnTo>
                <a:cubicBezTo>
                  <a:pt x="2893620" y="3657600"/>
                  <a:pt x="2900319" y="3641665"/>
                  <a:pt x="2912093" y="3629891"/>
                </a:cubicBezTo>
                <a:lnTo>
                  <a:pt x="2939803" y="3602182"/>
                </a:lnTo>
                <a:cubicBezTo>
                  <a:pt x="2949039" y="3574473"/>
                  <a:pt x="2951310" y="3543357"/>
                  <a:pt x="2967512" y="3519054"/>
                </a:cubicBezTo>
                <a:lnTo>
                  <a:pt x="3022930" y="3435927"/>
                </a:lnTo>
                <a:lnTo>
                  <a:pt x="3050639" y="3352800"/>
                </a:lnTo>
                <a:cubicBezTo>
                  <a:pt x="3055257" y="3338945"/>
                  <a:pt x="3056392" y="3323387"/>
                  <a:pt x="3064493" y="3311236"/>
                </a:cubicBezTo>
                <a:lnTo>
                  <a:pt x="3092203" y="3269673"/>
                </a:lnTo>
                <a:cubicBezTo>
                  <a:pt x="3121035" y="3154338"/>
                  <a:pt x="3085928" y="3268366"/>
                  <a:pt x="3133766" y="3172691"/>
                </a:cubicBezTo>
                <a:cubicBezTo>
                  <a:pt x="3191126" y="3057972"/>
                  <a:pt x="3095921" y="3208676"/>
                  <a:pt x="3175330" y="3089564"/>
                </a:cubicBezTo>
                <a:cubicBezTo>
                  <a:pt x="3189962" y="3045665"/>
                  <a:pt x="3186199" y="3044803"/>
                  <a:pt x="3216893" y="3006436"/>
                </a:cubicBezTo>
                <a:cubicBezTo>
                  <a:pt x="3225053" y="2996236"/>
                  <a:pt x="3236766" y="2989177"/>
                  <a:pt x="3244603" y="2978727"/>
                </a:cubicBezTo>
                <a:cubicBezTo>
                  <a:pt x="3264584" y="2952085"/>
                  <a:pt x="3281548" y="2923309"/>
                  <a:pt x="3300021" y="2895600"/>
                </a:cubicBezTo>
                <a:lnTo>
                  <a:pt x="3327730" y="2854036"/>
                </a:lnTo>
                <a:lnTo>
                  <a:pt x="3355439" y="2812473"/>
                </a:lnTo>
                <a:lnTo>
                  <a:pt x="3383148" y="2729345"/>
                </a:lnTo>
                <a:cubicBezTo>
                  <a:pt x="3387766" y="2715491"/>
                  <a:pt x="3390472" y="2700844"/>
                  <a:pt x="3397003" y="2687782"/>
                </a:cubicBezTo>
                <a:cubicBezTo>
                  <a:pt x="3406239" y="2669309"/>
                  <a:pt x="3417042" y="2651540"/>
                  <a:pt x="3424712" y="2632364"/>
                </a:cubicBezTo>
                <a:cubicBezTo>
                  <a:pt x="3435560" y="2605245"/>
                  <a:pt x="3443185" y="2576945"/>
                  <a:pt x="3452421" y="2549236"/>
                </a:cubicBezTo>
                <a:cubicBezTo>
                  <a:pt x="3457039" y="2535382"/>
                  <a:pt x="3458174" y="2519824"/>
                  <a:pt x="3466275" y="2507673"/>
                </a:cubicBezTo>
                <a:cubicBezTo>
                  <a:pt x="3510186" y="2441806"/>
                  <a:pt x="3488718" y="2481906"/>
                  <a:pt x="3521693" y="2382982"/>
                </a:cubicBezTo>
                <a:cubicBezTo>
                  <a:pt x="3546079" y="2309826"/>
                  <a:pt x="3527449" y="2353567"/>
                  <a:pt x="3590966" y="2258291"/>
                </a:cubicBezTo>
                <a:lnTo>
                  <a:pt x="3618675" y="2216727"/>
                </a:lnTo>
                <a:lnTo>
                  <a:pt x="3646384" y="2175164"/>
                </a:lnTo>
                <a:cubicBezTo>
                  <a:pt x="3651930" y="2152982"/>
                  <a:pt x="3677829" y="2043364"/>
                  <a:pt x="3687948" y="2036618"/>
                </a:cubicBezTo>
                <a:lnTo>
                  <a:pt x="3729512" y="2008909"/>
                </a:lnTo>
                <a:lnTo>
                  <a:pt x="3784930" y="1925782"/>
                </a:lnTo>
                <a:cubicBezTo>
                  <a:pt x="3794166" y="1911927"/>
                  <a:pt x="3800865" y="1895992"/>
                  <a:pt x="3812639" y="1884218"/>
                </a:cubicBezTo>
                <a:lnTo>
                  <a:pt x="3854203" y="1842654"/>
                </a:lnTo>
                <a:cubicBezTo>
                  <a:pt x="3858821" y="1828800"/>
                  <a:pt x="3859091" y="1812618"/>
                  <a:pt x="3868057" y="1801091"/>
                </a:cubicBezTo>
                <a:cubicBezTo>
                  <a:pt x="3892115" y="1770159"/>
                  <a:pt x="3923475" y="1745673"/>
                  <a:pt x="3951184" y="1717964"/>
                </a:cubicBezTo>
                <a:cubicBezTo>
                  <a:pt x="3960420" y="1708727"/>
                  <a:pt x="3971647" y="1701122"/>
                  <a:pt x="3978893" y="1690254"/>
                </a:cubicBezTo>
                <a:lnTo>
                  <a:pt x="4006603" y="1648691"/>
                </a:lnTo>
                <a:cubicBezTo>
                  <a:pt x="4011221" y="1634836"/>
                  <a:pt x="4013926" y="1620189"/>
                  <a:pt x="4020457" y="1607127"/>
                </a:cubicBezTo>
                <a:cubicBezTo>
                  <a:pt x="4030585" y="1586872"/>
                  <a:pt x="4080320" y="1522692"/>
                  <a:pt x="4089730" y="1510145"/>
                </a:cubicBezTo>
                <a:cubicBezTo>
                  <a:pt x="4094348" y="1496291"/>
                  <a:pt x="4095483" y="1480733"/>
                  <a:pt x="4103584" y="1468582"/>
                </a:cubicBezTo>
                <a:cubicBezTo>
                  <a:pt x="4151401" y="1396856"/>
                  <a:pt x="4163675" y="1454562"/>
                  <a:pt x="4200566" y="1343891"/>
                </a:cubicBezTo>
                <a:cubicBezTo>
                  <a:pt x="4205184" y="1330036"/>
                  <a:pt x="4210409" y="1316369"/>
                  <a:pt x="4214421" y="1302327"/>
                </a:cubicBezTo>
                <a:cubicBezTo>
                  <a:pt x="4219652" y="1284018"/>
                  <a:pt x="4218828" y="1263441"/>
                  <a:pt x="4228275" y="1246909"/>
                </a:cubicBezTo>
                <a:cubicBezTo>
                  <a:pt x="4237996" y="1229897"/>
                  <a:pt x="4255984" y="1219200"/>
                  <a:pt x="4269839" y="1205345"/>
                </a:cubicBezTo>
                <a:cubicBezTo>
                  <a:pt x="4274457" y="1191491"/>
                  <a:pt x="4276601" y="1176548"/>
                  <a:pt x="4283693" y="1163782"/>
                </a:cubicBezTo>
                <a:cubicBezTo>
                  <a:pt x="4299866" y="1134670"/>
                  <a:pt x="4339112" y="1080654"/>
                  <a:pt x="4339112" y="1080654"/>
                </a:cubicBezTo>
                <a:cubicBezTo>
                  <a:pt x="4370299" y="987091"/>
                  <a:pt x="4334311" y="1102259"/>
                  <a:pt x="4366821" y="955964"/>
                </a:cubicBezTo>
                <a:cubicBezTo>
                  <a:pt x="4369989" y="941708"/>
                  <a:pt x="4372574" y="926551"/>
                  <a:pt x="4380675" y="914400"/>
                </a:cubicBezTo>
                <a:cubicBezTo>
                  <a:pt x="4391543" y="898097"/>
                  <a:pt x="4408384" y="886691"/>
                  <a:pt x="4422239" y="872836"/>
                </a:cubicBezTo>
                <a:cubicBezTo>
                  <a:pt x="4455214" y="773912"/>
                  <a:pt x="4425646" y="805910"/>
                  <a:pt x="4491512" y="762000"/>
                </a:cubicBezTo>
                <a:cubicBezTo>
                  <a:pt x="4500748" y="743527"/>
                  <a:pt x="4505999" y="722448"/>
                  <a:pt x="4519221" y="706582"/>
                </a:cubicBezTo>
                <a:cubicBezTo>
                  <a:pt x="4529881" y="693790"/>
                  <a:pt x="4549010" y="690647"/>
                  <a:pt x="4560784" y="678873"/>
                </a:cubicBezTo>
                <a:cubicBezTo>
                  <a:pt x="4572558" y="667099"/>
                  <a:pt x="4578091" y="650311"/>
                  <a:pt x="4588493" y="637309"/>
                </a:cubicBezTo>
                <a:cubicBezTo>
                  <a:pt x="4596653" y="627109"/>
                  <a:pt x="4608366" y="620050"/>
                  <a:pt x="4616203" y="609600"/>
                </a:cubicBezTo>
                <a:cubicBezTo>
                  <a:pt x="4667693" y="540947"/>
                  <a:pt x="4656778" y="531914"/>
                  <a:pt x="4713184" y="484909"/>
                </a:cubicBezTo>
                <a:cubicBezTo>
                  <a:pt x="4725976" y="474249"/>
                  <a:pt x="4740893" y="466436"/>
                  <a:pt x="4754748" y="457200"/>
                </a:cubicBezTo>
                <a:lnTo>
                  <a:pt x="4837875" y="332509"/>
                </a:lnTo>
                <a:cubicBezTo>
                  <a:pt x="4847111" y="318654"/>
                  <a:pt x="4860318" y="306742"/>
                  <a:pt x="4865584" y="290945"/>
                </a:cubicBezTo>
                <a:cubicBezTo>
                  <a:pt x="4900410" y="186473"/>
                  <a:pt x="4853432" y="315251"/>
                  <a:pt x="4907148" y="207818"/>
                </a:cubicBezTo>
                <a:cubicBezTo>
                  <a:pt x="4941991" y="138132"/>
                  <a:pt x="4889057" y="170491"/>
                  <a:pt x="4976421" y="83127"/>
                </a:cubicBezTo>
                <a:cubicBezTo>
                  <a:pt x="4990275" y="69273"/>
                  <a:pt x="5001682" y="52432"/>
                  <a:pt x="5017984" y="41564"/>
                </a:cubicBezTo>
                <a:cubicBezTo>
                  <a:pt x="5030135" y="33463"/>
                  <a:pt x="5046486" y="34240"/>
                  <a:pt x="5059548" y="27709"/>
                </a:cubicBezTo>
                <a:cubicBezTo>
                  <a:pt x="5074441" y="20262"/>
                  <a:pt x="5087257" y="9236"/>
                  <a:pt x="5101112" y="0"/>
                </a:cubicBezTo>
                <a:cubicBezTo>
                  <a:pt x="5170385" y="4618"/>
                  <a:pt x="5239928" y="6187"/>
                  <a:pt x="5308930" y="13854"/>
                </a:cubicBezTo>
                <a:cubicBezTo>
                  <a:pt x="5323444" y="15467"/>
                  <a:pt x="5336451" y="23697"/>
                  <a:pt x="5350493" y="27709"/>
                </a:cubicBezTo>
                <a:cubicBezTo>
                  <a:pt x="5368802" y="32940"/>
                  <a:pt x="5387603" y="36333"/>
                  <a:pt x="5405912" y="41564"/>
                </a:cubicBezTo>
                <a:cubicBezTo>
                  <a:pt x="5419954" y="45576"/>
                  <a:pt x="5432961" y="53805"/>
                  <a:pt x="5447475" y="55418"/>
                </a:cubicBezTo>
                <a:cubicBezTo>
                  <a:pt x="5516477" y="63085"/>
                  <a:pt x="5586020" y="64655"/>
                  <a:pt x="5655293" y="69273"/>
                </a:cubicBezTo>
                <a:cubicBezTo>
                  <a:pt x="5689098" y="80541"/>
                  <a:pt x="5711563" y="83978"/>
                  <a:pt x="5738421" y="110836"/>
                </a:cubicBezTo>
                <a:cubicBezTo>
                  <a:pt x="5750195" y="122610"/>
                  <a:pt x="5754356" y="140626"/>
                  <a:pt x="5766130" y="152400"/>
                </a:cubicBezTo>
                <a:cubicBezTo>
                  <a:pt x="5777904" y="164174"/>
                  <a:pt x="5794691" y="169707"/>
                  <a:pt x="5807693" y="180109"/>
                </a:cubicBezTo>
                <a:cubicBezTo>
                  <a:pt x="5817893" y="188269"/>
                  <a:pt x="5826166" y="198582"/>
                  <a:pt x="5835403" y="207818"/>
                </a:cubicBezTo>
                <a:cubicBezTo>
                  <a:pt x="5840725" y="239750"/>
                  <a:pt x="5846057" y="298400"/>
                  <a:pt x="5863112" y="332509"/>
                </a:cubicBezTo>
                <a:cubicBezTo>
                  <a:pt x="5870559" y="347402"/>
                  <a:pt x="5880161" y="361281"/>
                  <a:pt x="5890821" y="374073"/>
                </a:cubicBezTo>
                <a:cubicBezTo>
                  <a:pt x="5903364" y="389125"/>
                  <a:pt x="5918530" y="401782"/>
                  <a:pt x="5932384" y="415636"/>
                </a:cubicBezTo>
                <a:cubicBezTo>
                  <a:pt x="5946822" y="458948"/>
                  <a:pt x="5960824" y="513105"/>
                  <a:pt x="6001657" y="540327"/>
                </a:cubicBezTo>
                <a:lnTo>
                  <a:pt x="6043221" y="568036"/>
                </a:lnTo>
                <a:cubicBezTo>
                  <a:pt x="6061694" y="595745"/>
                  <a:pt x="6075091" y="627616"/>
                  <a:pt x="6098639" y="651164"/>
                </a:cubicBezTo>
                <a:cubicBezTo>
                  <a:pt x="6126348" y="678873"/>
                  <a:pt x="6160029" y="701686"/>
                  <a:pt x="6181766" y="734291"/>
                </a:cubicBezTo>
                <a:cubicBezTo>
                  <a:pt x="6191002" y="748145"/>
                  <a:pt x="6199073" y="762852"/>
                  <a:pt x="6209475" y="775854"/>
                </a:cubicBezTo>
                <a:cubicBezTo>
                  <a:pt x="6217635" y="786054"/>
                  <a:pt x="6229347" y="793114"/>
                  <a:pt x="6237184" y="803564"/>
                </a:cubicBezTo>
                <a:cubicBezTo>
                  <a:pt x="6257165" y="830206"/>
                  <a:pt x="6292603" y="886691"/>
                  <a:pt x="6292603" y="886691"/>
                </a:cubicBezTo>
                <a:cubicBezTo>
                  <a:pt x="6325578" y="985615"/>
                  <a:pt x="6304111" y="945516"/>
                  <a:pt x="6348021" y="1011382"/>
                </a:cubicBezTo>
                <a:cubicBezTo>
                  <a:pt x="6357257" y="1039091"/>
                  <a:pt x="6355077" y="1073856"/>
                  <a:pt x="6375730" y="1094509"/>
                </a:cubicBezTo>
                <a:cubicBezTo>
                  <a:pt x="6456777" y="1175556"/>
                  <a:pt x="6426889" y="1136611"/>
                  <a:pt x="6472712" y="1205345"/>
                </a:cubicBezTo>
                <a:cubicBezTo>
                  <a:pt x="6475684" y="1235068"/>
                  <a:pt x="6494995" y="1433311"/>
                  <a:pt x="6500421" y="1468582"/>
                </a:cubicBezTo>
                <a:cubicBezTo>
                  <a:pt x="6503316" y="1487402"/>
                  <a:pt x="6510144" y="1505412"/>
                  <a:pt x="6514275" y="1524000"/>
                </a:cubicBezTo>
                <a:cubicBezTo>
                  <a:pt x="6519383" y="1546988"/>
                  <a:pt x="6523022" y="1570285"/>
                  <a:pt x="6528130" y="1593273"/>
                </a:cubicBezTo>
                <a:cubicBezTo>
                  <a:pt x="6533512" y="1617492"/>
                  <a:pt x="6559824" y="1721949"/>
                  <a:pt x="6569693" y="1731818"/>
                </a:cubicBezTo>
                <a:lnTo>
                  <a:pt x="6597403" y="1759527"/>
                </a:lnTo>
                <a:cubicBezTo>
                  <a:pt x="6612036" y="1803429"/>
                  <a:pt x="6608271" y="1804285"/>
                  <a:pt x="6638966" y="1842654"/>
                </a:cubicBezTo>
                <a:cubicBezTo>
                  <a:pt x="6647126" y="1852854"/>
                  <a:pt x="6658515" y="1860164"/>
                  <a:pt x="6666675" y="1870364"/>
                </a:cubicBezTo>
                <a:cubicBezTo>
                  <a:pt x="6719616" y="1936541"/>
                  <a:pt x="6674093" y="1885200"/>
                  <a:pt x="6708239" y="1953491"/>
                </a:cubicBezTo>
                <a:cubicBezTo>
                  <a:pt x="6715686" y="1968384"/>
                  <a:pt x="6729185" y="1979838"/>
                  <a:pt x="6735948" y="1995054"/>
                </a:cubicBezTo>
                <a:cubicBezTo>
                  <a:pt x="6750715" y="2028279"/>
                  <a:pt x="6764364" y="2101198"/>
                  <a:pt x="6791366" y="2133600"/>
                </a:cubicBezTo>
                <a:cubicBezTo>
                  <a:pt x="6802026" y="2146392"/>
                  <a:pt x="6820399" y="2150344"/>
                  <a:pt x="6832930" y="2161309"/>
                </a:cubicBezTo>
                <a:cubicBezTo>
                  <a:pt x="6857506" y="2182813"/>
                  <a:pt x="6879112" y="2207491"/>
                  <a:pt x="6902203" y="2230582"/>
                </a:cubicBezTo>
                <a:cubicBezTo>
                  <a:pt x="6916057" y="2244436"/>
                  <a:pt x="6927464" y="2261277"/>
                  <a:pt x="6943766" y="2272145"/>
                </a:cubicBezTo>
                <a:cubicBezTo>
                  <a:pt x="6996199" y="2307100"/>
                  <a:pt x="6973556" y="2288080"/>
                  <a:pt x="7013039" y="2327564"/>
                </a:cubicBezTo>
                <a:cubicBezTo>
                  <a:pt x="7040010" y="2408479"/>
                  <a:pt x="7005790" y="2334169"/>
                  <a:pt x="7068457" y="2396836"/>
                </a:cubicBezTo>
                <a:cubicBezTo>
                  <a:pt x="7080231" y="2408610"/>
                  <a:pt x="7085506" y="2425608"/>
                  <a:pt x="7096166" y="2438400"/>
                </a:cubicBezTo>
                <a:cubicBezTo>
                  <a:pt x="7129502" y="2478403"/>
                  <a:pt x="7138426" y="2480428"/>
                  <a:pt x="7179293" y="2507673"/>
                </a:cubicBezTo>
                <a:cubicBezTo>
                  <a:pt x="7209522" y="2598356"/>
                  <a:pt x="7167538" y="2509352"/>
                  <a:pt x="7234712" y="2563091"/>
                </a:cubicBezTo>
                <a:cubicBezTo>
                  <a:pt x="7247714" y="2573493"/>
                  <a:pt x="7251456" y="2592123"/>
                  <a:pt x="7262421" y="2604654"/>
                </a:cubicBezTo>
                <a:cubicBezTo>
                  <a:pt x="7283925" y="2629230"/>
                  <a:pt x="7308602" y="2650836"/>
                  <a:pt x="7331693" y="2673927"/>
                </a:cubicBezTo>
                <a:cubicBezTo>
                  <a:pt x="7340930" y="2683164"/>
                  <a:pt x="7348534" y="2694390"/>
                  <a:pt x="7359403" y="2701636"/>
                </a:cubicBezTo>
                <a:lnTo>
                  <a:pt x="7400966" y="2729345"/>
                </a:lnTo>
                <a:cubicBezTo>
                  <a:pt x="7462934" y="2822298"/>
                  <a:pt x="7389936" y="2731229"/>
                  <a:pt x="7470239" y="2784764"/>
                </a:cubicBezTo>
                <a:cubicBezTo>
                  <a:pt x="7486542" y="2795632"/>
                  <a:pt x="7494675" y="2816812"/>
                  <a:pt x="7511803" y="2826327"/>
                </a:cubicBezTo>
                <a:cubicBezTo>
                  <a:pt x="7537335" y="2840511"/>
                  <a:pt x="7567221" y="2844800"/>
                  <a:pt x="7594930" y="2854036"/>
                </a:cubicBezTo>
                <a:cubicBezTo>
                  <a:pt x="7608784" y="2858654"/>
                  <a:pt x="7622173" y="2865027"/>
                  <a:pt x="7636493" y="2867891"/>
                </a:cubicBezTo>
                <a:cubicBezTo>
                  <a:pt x="7796449" y="2899881"/>
                  <a:pt x="7682247" y="2880569"/>
                  <a:pt x="7982857" y="2895600"/>
                </a:cubicBezTo>
                <a:lnTo>
                  <a:pt x="8758712" y="2881745"/>
                </a:lnTo>
                <a:cubicBezTo>
                  <a:pt x="8773307" y="2881250"/>
                  <a:pt x="8788124" y="2875992"/>
                  <a:pt x="8800275" y="2867891"/>
                </a:cubicBezTo>
                <a:cubicBezTo>
                  <a:pt x="8904054" y="2798705"/>
                  <a:pt x="8784576" y="2845414"/>
                  <a:pt x="8883403" y="2812473"/>
                </a:cubicBezTo>
                <a:cubicBezTo>
                  <a:pt x="8897257" y="2803237"/>
                  <a:pt x="8911964" y="2795166"/>
                  <a:pt x="8924966" y="2784764"/>
                </a:cubicBezTo>
                <a:cubicBezTo>
                  <a:pt x="8935166" y="2776604"/>
                  <a:pt x="8940992" y="2762896"/>
                  <a:pt x="8952675" y="2757054"/>
                </a:cubicBezTo>
                <a:cubicBezTo>
                  <a:pt x="8978800" y="2743992"/>
                  <a:pt x="9035803" y="2729345"/>
                  <a:pt x="9035803" y="2729345"/>
                </a:cubicBezTo>
                <a:cubicBezTo>
                  <a:pt x="9044930" y="2701965"/>
                  <a:pt x="9052950" y="2665750"/>
                  <a:pt x="9077366" y="2646218"/>
                </a:cubicBezTo>
                <a:cubicBezTo>
                  <a:pt x="9088770" y="2637095"/>
                  <a:pt x="9105868" y="2638895"/>
                  <a:pt x="9118930" y="2632364"/>
                </a:cubicBezTo>
                <a:cubicBezTo>
                  <a:pt x="9124772" y="2629443"/>
                  <a:pt x="9128166" y="2623127"/>
                  <a:pt x="9132784" y="2618509"/>
                </a:cubicBezTo>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http://geography.about.com/library/blank/usa3.jpg"/>
          <p:cNvPicPr/>
          <p:nvPr/>
        </p:nvPicPr>
        <p:blipFill>
          <a:blip r:embed="rId1"/>
          <a:stretch/>
        </p:blipFill>
        <p:spPr>
          <a:xfrm>
            <a:off x="228600" y="990720"/>
            <a:ext cx="8915400" cy="6019560"/>
          </a:xfrm>
          <a:prstGeom prst="rect">
            <a:avLst/>
          </a:prstGeom>
          <a:ln w="0">
            <a:noFill/>
          </a:ln>
        </p:spPr>
      </p:pic>
      <p:sp>
        <p:nvSpPr>
          <p:cNvPr id="63" name="TextBox 3"/>
          <p:cNvSpPr/>
          <p:nvPr/>
        </p:nvSpPr>
        <p:spPr>
          <a:xfrm>
            <a:off x="228600" y="192240"/>
            <a:ext cx="8763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your book and a map, (there’s one of those in the back of your book!), to indicate where the Transcontinental Railroad started and ended. Use one color to indicate the Union Pacific track and another to indicate the Central Pacific tracks. Also, indicate the four different time zones by shading each a different color. Find Topeka; what TZ is this? PS don’t forget your ke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4T11:37:25Z</dcterms:created>
  <dc:creator>IT Clone User</dc:creator>
  <dc:description/>
  <dc:language>en-US</dc:language>
  <cp:lastModifiedBy>IT Clone User</cp:lastModifiedBy>
  <dcterms:modified xsi:type="dcterms:W3CDTF">2009-09-04T14:19:13Z</dcterms:modified>
  <cp:revision>14</cp:revision>
  <dc:subject/>
  <dc:title>Slide 1</dc:title>
</cp:coreProperties>
</file>